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hurch of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, Unit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4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2 The Hymn Society of Am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hurch of God, united to serve one common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claim to all one message, with hearts in glad acc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ever goes before us; we follow day by 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strong and eager footsteps along the upward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every land and nation the ordered ranks app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rve one valiant leader they come from far and ne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chant their one confession, they praise one living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lace their sure dependence upon his saving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creeds and tongues may differ, they speak, O Christ, of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thy loving spirit we shall one people b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may our faithful service and singleness of a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claim to all the power of thy redeeming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y great prayer be answered that we may all be 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ose bound, by love united in thee, God's blessed So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ring a single witness, to make the pathway br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souls which grope in darkness may find the one true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7T15:59:34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14T00:45:29Z</dcterms:modified>
  <cp:revision>4</cp:revision>
  <dc:subject/>
  <dc:title>No Slide Title</dc:title>
</cp:coreProperties>
</file>