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Mighty Gat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1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ds, ye mighty gat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, the King of glory wait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kings is drawing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vior of the world is he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ing wide the portals of your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it a temple, set a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ly use for heaven's empl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orned with prayer and love and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er, come, with us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to thee we open w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y inner presence fe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ace and love in us rev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Spirit lead us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our glorious goal is w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praise, eternal f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ffered, Savior, to thy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17:50:18Z</dcterms:created>
  <dc:creator>Gary Wintergerst</dc:creator>
  <dc:description/>
  <dc:language>en-US</dc:language>
  <cp:lastModifiedBy>U</cp:lastModifiedBy>
  <cp:lastPrinted>1995-07-27T17:18:18Z</cp:lastPrinted>
  <dcterms:modified xsi:type="dcterms:W3CDTF">1997-07-24T04:49:27Z</dcterms:modified>
  <cp:revision>4</cp:revision>
  <dc:subject/>
  <dc:title>No Slide Title</dc:title>
</cp:coreProperties>
</file>