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re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East or W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. 3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re is no east or w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no south or no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one great fellowship of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hole wid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shall true hearts everyw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high communion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ervice is the golden 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binding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is neither Jew nor Gr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either slave nor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male and female heirs are m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are kin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now meet both east and w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meet south and no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hristly souls are one in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hole wid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4:08:5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0:46:30Z</dcterms:modified>
  <cp:revision>4</cp:revision>
  <dc:subject/>
  <dc:title>No Slide Title</dc:title>
</cp:coreProperties>
</file>