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Grea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Our S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velous grace of our lo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exceeds our sin and our guil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nder on Calvary's mount outpou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where the blood of the Lamb was spil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will pardon and cleanse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is greater than all our s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and despair, like the sea waves c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eaten the soul with infinite l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is greater, yes, grace unt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ints to the refuge, the mighty cro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will pardon and cleanse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is greater than all our s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k is the stain that we cannot h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n avail to wash it aw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! There is flowing a crimson t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er than snow you may be to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will pardon and cleanse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is greater than all our s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velous, infinite, matchles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ly bestowed on all who believ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that are longing to see hi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you this moment his grace receiv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will pardon and cleanse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, grace,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hat is greater than all our s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2:36:00Z</dcterms:created>
  <dc:creator>Gary Wintergerst</dc:creator>
  <dc:description/>
  <dc:language>en-US</dc:language>
  <cp:lastModifiedBy>U</cp:lastModifiedBy>
  <cp:lastPrinted>1995-08-07T15:04:32Z</cp:lastPrinted>
  <dcterms:modified xsi:type="dcterms:W3CDTF">1997-07-24T14:30:50Z</dcterms:modified>
  <cp:revision>3</cp:revision>
  <dc:subject/>
  <dc:title>No Slide Title</dc:title>
</cp:coreProperties>
</file>