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re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A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re we yet a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e each other's fac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and thanks to Jesus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almighty gra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served by power div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ull salvation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 in Jesus' praise we jo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his sight app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roubles have we s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ighty conflicts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ghtings without, and fears with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we assembled la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out of all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brought us by hi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he doth his help aff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des our life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make our bo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s redeeming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aves us to the utterm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can sin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ake up 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the crown ob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adly reckon all things l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e may Jesus 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5:50:46Z</dcterms:created>
  <dc:creator>Gary Wintergerst</dc:creator>
  <dc:description/>
  <dc:language>en-US</dc:language>
  <cp:lastModifiedBy>U</cp:lastModifiedBy>
  <cp:lastPrinted>1995-08-11T16:01:02Z</cp:lastPrinted>
  <dcterms:modified xsi:type="dcterms:W3CDTF">1997-07-24T16:41:42Z</dcterms:modified>
  <cp:revision>3</cp:revision>
  <dc:subject/>
  <dc:title>No Slide Title</dc:title>
</cp:coreProperties>
</file>