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eath the Cro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9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eath the cross of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fain would take my 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hadow of a mighty roc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a weary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ome within the wilder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rest upon the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burning of the noon-tide hea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urden of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on that cross of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ne eye at times can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ery dying form of 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suffered there for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my stricken heart with tea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wo wonders I confes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nders of redeeming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unworthi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take, O cross, thy shad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y abiding pl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sk no other sunshine tha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unshine of his f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tent to let the world go b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now no gain nor l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inful self my only sh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lory all the cro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3T21:50:30Z</dcterms:created>
  <dc:creator>Gary Wintergerst</dc:creator>
  <dc:description/>
  <dc:language>en-US</dc:language>
  <cp:lastModifiedBy>U</cp:lastModifiedBy>
  <dcterms:modified xsi:type="dcterms:W3CDTF">1997-07-24T05:03:54Z</dcterms:modified>
  <cp:revision>4</cp:revision>
  <dc:subject/>
  <dc:title>No Slide Title</dc:title>
</cp:coreProperties>
</file>