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tos y Palma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(Filled with Exciteme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Eng: 2; Sp:9; Sp/Eng:1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ery corner a thousand voices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s to him who comes in the name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ne great shout of acclamation lou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ant song breaks fort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osanna, hosanna to the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, hosanna to the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n that entrance to Jerusal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hosannas to the Christ, our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living Savior who still calls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ing us to follow him with love and fai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ery corner a thousand voices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s to him who comes in the name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ne great shout of acclamation lou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ant song breaks fort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osanna, hosanna to the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, hosanna to the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tos y palmas esparciendo, v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pueblo alegre de Jerusalé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excitement, all the happy thr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ead cloaks and branches on the city stree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á a lo lejos se empieza a mir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un pollino al Hij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n the distance they begin to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ding on a donkey, comes the Son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entras mil voces resuenan por doqui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al que viene en el nombre de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ery corner a thousand voices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s to him who comes in the name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un aliento de gran exclamació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rrumpen con voz triunfa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ne great shout of acclamation lou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ant song breaks fort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tos y palmas esparciendo, v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pueblo alegre de Jerusalé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á a lo lejos se empieza a mir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un pollino al Hijo de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¡Hosanna! ¡Hosanna al Re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Hosanna! ¡Hosanna al Rey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osanna, hosanna to the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, hosanna to the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en la entrada de Jerusalé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os cantamos a Jesus el R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n that entrance to Jerusal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ing hosannas to the Christ, our K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Cristo vivo que nos llama h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a seguirle con amor y 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living Savior who still calls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ing us to follow him with love and fai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entras mil voces resuenan por doqui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al que viene en el nombre de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ery corner a thousand voices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s to him who comes in the name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un aliento de gran exclamació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rrumpen con voz triunfa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ne great shout of acclamation lou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ant song breaks fort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¡Hosanna! ¡Hosanna al Re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Hosanna! ¡Hosanna al Rey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osanna, hosanna to the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, hosanna to the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entras mil voces resuenan por doqui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al que viene en el nombre de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un aliento de gran exclamació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rrumpen con voz triunfa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¡Hosanna! ¡Hosanna al Re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Hosanna! ¡Hosanna al Rey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en la entrada de Jerusalé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os cantamos a Jesus el R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Cristo vivo que nos llama h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a seguirle con amor y 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entras mil voces resuenan por doqui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 al que viene en el nombre de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un aliento de gran exclamació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rrumpen con voz triunfa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¡Hosanna! ¡Hosanna al Re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Hosanna! ¡Hosanna al Rey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excitement, all the happy thr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ead cloaks and branches on the city street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n the distance they begin to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ding on a donkey, comes the Son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5:04:4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12T18:22:14Z</dcterms:modified>
  <cp:revision>6</cp:revision>
  <dc:subject/>
  <dc:title>No Slide Title</dc:title>
</cp:coreProperties>
</file>