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! the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Over 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! the name high ove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ell or earth or sk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and mortals prostrat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evils fear and f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! The name to sinners d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to sinners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catters all their guilty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turns their hell to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the world might taste and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iches of his gr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rms of love that compass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all the world emb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I shall constantly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earth and hell opp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ld to confess thy glorious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a world of fo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only righteousness I sh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aving truth proclaim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all my business here be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ry, "Behold the Lamb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, if with my latest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but gasp his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 him to all and cry in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Behold, behold the Lamb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35:30Z</dcterms:created>
  <dc:creator>Gary Wintergerst</dc:creator>
  <dc:description/>
  <dc:language>en-US</dc:language>
  <cp:lastModifiedBy>U</cp:lastModifiedBy>
  <cp:lastPrinted>1995-08-11T16:01:02Z</cp:lastPrinted>
  <dcterms:modified xsi:type="dcterms:W3CDTF">1997-07-24T01:27:48Z</dcterms:modified>
  <cp:revision>3</cp:revision>
  <dc:subject/>
  <dc:title>No Slide Title</dc:title>
</cp:coreProperties>
</file>