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rea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d Toge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reak bread together on our kne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break bread together on our kne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fall on my kne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y face to the rising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ave mercy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drink wine together on our kne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drink wine together on our kne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fall on my kne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y face to the rising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ave mercy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God together on our kne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God together on our kne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fall on my kne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y face to the rising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ave mercy on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God together on our kne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God together on our kne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fall on my kne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y face to the rising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have mercy if you pl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7:55:36Z</dcterms:created>
  <dc:creator>Gary Wintergerst</dc:creator>
  <dc:description/>
  <dc:language>en-US</dc:language>
  <cp:lastModifiedBy>U</cp:lastModifiedBy>
  <cp:lastPrinted>1995-08-11T16:01:02Z</cp:lastPrinted>
  <dcterms:modified xsi:type="dcterms:W3CDTF">1997-07-24T17:22:28Z</dcterms:modified>
  <cp:revision>3</cp:revision>
  <dc:subject/>
  <dc:title>No Slide Title</dc:title>
</cp:coreProperties>
</file>