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Us i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's T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us in the Spirit's t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humbly in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or three are met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in the midst of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we now thy garment's h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disciples used to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name of Christ to s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ith thanks to God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 and bless the cup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now bind our friendship u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meals and all our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as sacraments of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caring, helping, 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true disciples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erve thee faithfu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41:20Z</dcterms:created>
  <dc:creator>Gary Wintergerst</dc:creator>
  <dc:description/>
  <dc:language>en-US</dc:language>
  <cp:lastModifiedBy>U</cp:lastModifiedBy>
  <cp:lastPrinted>1995-12-25T20:37:12Z</cp:lastPrinted>
  <dcterms:modified xsi:type="dcterms:W3CDTF">1997-07-24T17:26:36Z</dcterms:modified>
  <cp:revision>4</cp:revision>
  <dc:subject/>
  <dc:title>No Slide Title</dc:title>
</cp:coreProperties>
</file>