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praise thee, now the night is o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ve and watchful, stand we all before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, we offer prayer and medi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we adore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arch of all things, fit us for thy man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 our weakness, health and wholeness sen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us to heaven, with thy saints uni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without 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-holy Father, Son, and equal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nity blessed, send us thy salv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s the glory, gleaming and res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cre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7:46Z</dcterms:created>
  <dc:creator>Gary Wintergerst</dc:creator>
  <dc:description/>
  <dc:language>en-US</dc:language>
  <cp:lastModifiedBy>U</cp:lastModifiedBy>
  <cp:lastPrinted>1995-12-28T04:27:04Z</cp:lastPrinted>
  <dcterms:modified xsi:type="dcterms:W3CDTF">1997-07-24T17:34:04Z</dcterms:modified>
  <cp:revision>4</cp:revision>
  <dc:subject/>
  <dc:title>No Slide Title</dc:title>
</cp:coreProperties>
</file>