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Down, Mos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4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Moses, you will not get lo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people g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etch out your rod and come acr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people g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down, Mo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y down in Egypt's l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old Pharao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let my people go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Israel stood by the water's s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people g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God's command it did div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people g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down, Mo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y down in Egypt's l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old Pharao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let my people go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y had reached the other sho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people g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sang a song of triumph o'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people g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down, Mo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y down in Egypt's l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old Pharao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let my people go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oses, the cloud shall cleave the 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people g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fire by night, a shade by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people g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down, Mo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y down in Egypt's l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old Pharao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let my people go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foes shall not before you st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people g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you'll possess fair Canaan's l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people g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down, Mo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y down in Egypt's l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old Pharao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let my people go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srael was in Egypt's l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people g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pressed so hard they could not st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people g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world's a wilderness of wo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people g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et us on to Canaan g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people g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down, Mo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y down in Egypt's l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old Pharao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let my people go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et us all from bondage fl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people g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et us all in Christ be f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people g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down, Mo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y down in Egypt's l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old Pharao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let my people go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down, Mo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y down in Egypt's l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old Pharao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let my people go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Thus saith the Lord," bold Moses sai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people g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if not, I'll smite your first-born dead,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people g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down, Mo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y down in Egypt's l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old Pharao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let my people go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more shall they in bondage toi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people g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m come out with Egypt's spoi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people g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down, Mo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y down in Egypt's l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old Pharao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let my people go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need not always weep and mour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people g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ear those slavery chains forlor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people g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down, Mo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y down in Egypt's l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old Pharao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let my people go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1T16:12:26Z</dcterms:created>
  <dc:creator>Gary Wintergerst</dc:creator>
  <dc:description/>
  <dc:language>en-US</dc:language>
  <cp:lastModifiedBy>U</cp:lastModifiedBy>
  <cp:lastPrinted>1995-08-11T16:01:02Z</cp:lastPrinted>
  <dcterms:modified xsi:type="dcterms:W3CDTF">1997-07-24T15:55:44Z</dcterms:modified>
  <cp:revision>3</cp:revision>
  <dc:subject/>
  <dc:title>No Slide Title</dc:title>
</cp:coreProperties>
</file>