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to Gr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u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7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65 Bliss Wia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 to greet the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dening in the sk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rrior-like and str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ly as a groo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rds pass high in f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agrant flowers now bloo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gracious 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my toil resu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I impl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fely keep this chi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y conduct g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tions calm and mil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erating 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bly teaching you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ways serving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ring thy rich tru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is day be bl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ing Jesus'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's freed from i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r blue sky's ab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 for cotton co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ain food satisfi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y countless nee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kind hand suppl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19:33:18Z</dcterms:created>
  <dc:creator>Gary Wintergerst</dc:creator>
  <dc:description/>
  <dc:language>en-US</dc:language>
  <cp:lastModifiedBy>Gary Wintergerst</cp:lastModifiedBy>
  <cp:lastPrinted>1995-12-28T04:22:14Z</cp:lastPrinted>
  <dcterms:modified xsi:type="dcterms:W3CDTF">1999-11-14T02:54:15Z</dcterms:modified>
  <cp:revision>5</cp:revision>
  <dc:subject/>
  <dc:title>No Slide Title</dc:title>
</cp:coreProperties>
</file>