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Food t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ilgrims Giv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3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food to pilgrims gi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bread of life from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nna from on hig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unger; Lord, supply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thy delights deny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hearts to thee draw ni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tream of love past tel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urest fountain, well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out the Savior's sid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faint with thirst; revive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ine abundance give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we need provi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Jesus, by thee bidd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ere adore thee, hidd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forms of bread and wi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when the veil is ris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may behold, in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countenance div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4T22:39:22Z</dcterms:created>
  <dc:creator>Gary Wintergerst</dc:creator>
  <dc:description/>
  <dc:language>en-US</dc:language>
  <cp:lastModifiedBy>U</cp:lastModifiedBy>
  <cp:lastPrinted>1995-08-11T16:01:02Z</cp:lastPrinted>
  <dcterms:modified xsi:type="dcterms:W3CDTF">1997-07-24T17:26:28Z</dcterms:modified>
  <cp:revision>3</cp:revision>
  <dc:subject/>
  <dc:title>No Slide Title</dc:title>
</cp:coreProperties>
</file>