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ow a R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r Bloom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ow a Rose e'er bloom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ender stem hath spru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se's lineage co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se of old have su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ame, a floweret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d the cold of win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alf spent was the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aiah 'twas foretold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ose I have in m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ary we behold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gin Mother k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ow God's love a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bore to us a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alf spent was the n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lower, whose fragrance te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weetness fills the 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pel in glorious splen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rkness everyw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man yet ver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in and death now sa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re our every lo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08:1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51:16Z</dcterms:modified>
  <cp:revision>3</cp:revision>
  <dc:subject/>
  <dc:title>No Slide Title</dc:title>
</cp:coreProperties>
</file>