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ill take us all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ill take us all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ill take us all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[Other traditional words for the refrain: ]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that old time relig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that old time relig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that old time relig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good enough for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has landed many a thous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has landed many a thous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has landed many a thous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n't no danger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n't no danger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n't no danger in the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good for my dear m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good for my dear m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good for my dear m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old ship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good for my dear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good for my dear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good for my dear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on board, get on bo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5T21:27:20Z</dcterms:created>
  <dc:creator>Gary Wintergerst</dc:creator>
  <dc:description/>
  <dc:language>en-US</dc:language>
  <cp:lastModifiedBy>U</cp:lastModifiedBy>
  <cp:lastPrinted>1995-10-25T21:26:38Z</cp:lastPrinted>
  <dcterms:modified xsi:type="dcterms:W3CDTF">1997-07-24T14:28:08Z</dcterms:modified>
  <cp:revision>2</cp:revision>
  <dc:subject/>
  <dc:title>No Slide Title</dc:title>
</cp:coreProperties>
</file>