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Bl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rops of tears can ne'er rep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of love I o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Lord, I give myself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that I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Savior bl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my Sovereign di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he devote that sacred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inners such as 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t for crimes that I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roaned upon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pity! Grace unkn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beyond degr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ight the sun in darkness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ut its glories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, the mighty maker, d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own creature's s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might I hide my blushing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his dear cross app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solve my heart in thank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lt thine eyes to tea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cross, at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 first saw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my heart rolled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there by faith I received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 I am happy all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13:54Z</dcterms:created>
  <dc:creator>Gary Wintergerst</dc:creator>
  <dc:description/>
  <dc:language>en-US</dc:language>
  <cp:lastModifiedBy>U</cp:lastModifiedBy>
  <cp:lastPrinted>1995-08-07T15:04:32Z</cp:lastPrinted>
  <dcterms:modified xsi:type="dcterms:W3CDTF">1997-07-24T14:30:00Z</dcterms:modified>
  <cp:revision>3</cp:revision>
  <dc:subject/>
  <dc:title>No Slide Title</dc:title>
</cp:coreProperties>
</file>