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Pricel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easu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3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priceless treas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urce of purest pleas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est friend to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ng my heart hath pant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it well-nigh faint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rsting after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I am, O spotless Lamb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suffer naught to hide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k for naught beside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ine arms I rest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es who would molest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not reach me 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the earth be sha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heart be qua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alms our f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 and hell in conflict fe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ir heaviest storms assail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will not fail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nce, all thoughts of sadnes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Lord of glad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enters 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se who love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the storms may g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have peace with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a, whate'er we here must b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in thee lies purest pleas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priceless treasu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7T15:05:14Z</dcterms:created>
  <dc:creator>Gary Wintergerst</dc:creator>
  <dc:description/>
  <dc:language>en-US</dc:language>
  <cp:lastModifiedBy>U</cp:lastModifiedBy>
  <cp:lastPrinted>1995-08-07T15:04:32Z</cp:lastPrinted>
  <dcterms:modified xsi:type="dcterms:W3CDTF">1997-07-24T16:37:54Z</dcterms:modified>
  <cp:revision>3</cp:revision>
  <dc:subject/>
  <dc:title>No Slide Title</dc:title>
</cp:coreProperties>
</file>