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 to Heav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he wondrous love of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his mercy and his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ansions bright and bless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ll prepare for us a pl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get to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day of rejoicing that will b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se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sing and shout the vic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we walk the pilgrim path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uds will overspread the sk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en traveling days are o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shadow, not a s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get to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day of rejoicing that will b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se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sing and shout the vic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hen be true and faith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ing, serving every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one glimpse of him in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the toils of life rep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get to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day of rejoicing that will b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se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sing and shout the vic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 to the prize before 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his beauty we'll beho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the pearly gates will op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tread the streets of go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get to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day of rejoicing that will b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ll see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sing and shout the victor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5:06Z</dcterms:created>
  <dc:creator>Gary Wintergerst</dc:creator>
  <dc:description/>
  <dc:language>en-US</dc:language>
  <cp:lastModifiedBy>U</cp:lastModifiedBy>
  <cp:lastPrinted>1996-01-02T13:58:08Z</cp:lastPrinted>
  <dcterms:modified xsi:type="dcterms:W3CDTF">1997-07-24T17:49:24Z</dcterms:modified>
  <cp:revision>4</cp:revision>
  <dc:subject/>
  <dc:title>No Slide Title</dc:title>
</cp:coreProperties>
</file>