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Mad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made the sure found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head and corner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sen of the Lord and prec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ing all the church in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Zion's help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r confidenc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is temple, where we call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Lord of Hosts,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y faithful loving-kin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y people as they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fullest benedi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within its walls al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vouchsafe to all thy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y ask of thee to 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y gain from thee for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blessed to re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reafter in thy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with thee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honor to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honor to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d and honor to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three and ever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might and on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unending ages r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06:28Z</dcterms:created>
  <dc:creator>Gary Wintergerst</dc:creator>
  <dc:description/>
  <dc:language>en-US</dc:language>
  <cp:lastModifiedBy>U</cp:lastModifiedBy>
  <cp:lastPrinted>1995-08-11T16:01:02Z</cp:lastPrinted>
  <dcterms:modified xsi:type="dcterms:W3CDTF">1997-07-24T16:42:22Z</dcterms:modified>
  <cp:revision>3</cp:revision>
  <dc:subject/>
  <dc:title>No Slide Title</dc:title>
</cp:coreProperties>
</file>