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upon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 Peak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7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upon the mountain p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s alone in glory blaz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, if we dare to sp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aints and angels praise him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mbling at his feet we sa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es and Elijah spea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prophets and the la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 thru them their joyful greet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ft the cloud of glory c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proclaiming in its thun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as the Son by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ions, cry aloud in wonde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God's beloved S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w and prophets fade before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st and last and only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creation now adore him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52:5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12T18:08:54Z</dcterms:modified>
  <cp:revision>3</cp:revision>
  <dc:subject/>
  <dc:title>No Slide Title</dc:title>
</cp:coreProperties>
</file>