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Firm a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undatio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2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firm a foundation, ye saints of the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laid for your faith in his excellent wor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more can he say than to you he hath sai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you who for refuge to Jesus have fled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Fear not, I am with thee, O be not dismay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I am thy God and will still give thee ai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ll strengthen and help thee, and cause thee to sta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pheld by my righteous, omnipotent ha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When through deep waters I call thee to g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rivers of woe shall not thee overflo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I will be with thee, thy troubles to bl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anctify to thee thy deepest distres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When through fiery trials thy pathways shall li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grace, all-sufficient, shall be thy suppl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flame shall not hurt thee; I only desig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dross to consume, and thy gold to ref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The soul that on Jesus still leans for repo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not, I will not desert to its foe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soul, though all hell should endeavor to shak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ll never, no, never, no, never forsake.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4T13:44:50Z</dcterms:created>
  <dc:creator>Gary Wintergerst</dc:creator>
  <dc:description/>
  <cp:keywords/>
  <dc:language>en-US</dc:language>
  <cp:lastModifiedBy>Gary Wintergerst</cp:lastModifiedBy>
  <cp:lastPrinted>1995-08-11T16:01:02Z</cp:lastPrinted>
  <dcterms:modified xsi:type="dcterms:W3CDTF">2004-06-13T14:34:56Z</dcterms:modified>
  <cp:revision>4</cp:revision>
  <dc:subject/>
  <dc:title>No Slide Title</dc:title>
</cp:coreProperties>
</file>