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E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. 4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2 Contemporary Worship 4: Hymns for Baptism &amp; Commun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Come, let us eat, for now the feast is spread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eat, for now the feast is spre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Our Lord's body let us take together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ord's body let us take toge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Come, let us drink, for now the wine is poured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drink, for now the wine is pour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Jesus' blood poured let us drink together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' blood poured let us drink toge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his presence now we meet and rest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presence now we meet and r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In the presence of our Lord we gather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presence of our Lord we gath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Rise, then, to spread abroad God's mighty Word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, then, to spread abroad God's mighty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Jesus risen will bring in the kingdom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risen will bring in the kingd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17:28Z</dcterms:created>
  <dc:creator>Gary Wintergerst</dc:creator>
  <dc:description/>
  <dc:language>en-US</dc:language>
  <cp:lastModifiedBy>Gary Wintergerst</cp:lastModifiedBy>
  <cp:lastPrinted>1995-12-25T20:32:18Z</cp:lastPrinted>
  <dcterms:modified xsi:type="dcterms:W3CDTF">1999-11-14T02:25:02Z</dcterms:modified>
  <cp:revision>6</cp:revision>
  <dc:subject/>
  <dc:title>No Slide Title</dc:title>
</cp:coreProperties>
</file>