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hepherd 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love my shepherd 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goodness faileth ne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othing lack if I am 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is min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streams of living water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ansomed soul he lead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 verdant pastures g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ood celestial feede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verse and foolish, oft I st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et in love he sought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his shoulder gently l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me, rejoicing, brought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death's dark vale I fear no 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, dear Lord, besid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rod and staff my comfort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ross before to guide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preadst a table in my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unction grace bestow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h, what transport of de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y pure chalice flowe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through all the length of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oodness faileth n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Shepherd, may I sing thy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y house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55:20Z</dcterms:created>
  <dc:creator>Gary Wintergerst</dc:creator>
  <dc:description/>
  <dc:language>en-US</dc:language>
  <cp:lastModifiedBy>U</cp:lastModifiedBy>
  <cp:lastPrinted>1995-08-11T16:01:02Z</cp:lastPrinted>
  <dcterms:modified xsi:type="dcterms:W3CDTF">1997-07-24T00:33:44Z</dcterms:modified>
  <cp:revision>3</cp:revision>
  <dc:subject/>
  <dc:title>No Slide Title</dc:title>
</cp:coreProperties>
</file>