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air and B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st.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of gladness, we are yea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y of your retu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, how fair and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beamest forth in truth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vereign meek and low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oot of Jesse, David'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and Master, thou hast w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to serve thee sole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holy, fair and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-victorious, rich in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 and might o'er all poss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eavenly Brightness! Light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eep within my heart now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ee there an alt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joy and strength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ember, ever joined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that cannot falt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ard thee longing doth possess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and bless me; here in s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ye and heart long for thy gladnes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joy to know, when life i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e love is first and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nd and the begin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one day, O gloriou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nsport us to that happy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all tears and sin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! Amen! Come, Lor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08:44Z</dcterms:created>
  <dc:creator>Gary Wintergerst</dc:creator>
  <dc:description/>
  <cp:keywords/>
  <dc:language>en-US</dc:language>
  <cp:lastModifiedBy>Scott Wolverton</cp:lastModifiedBy>
  <cp:lastPrinted>1995-08-30T07:48:42Z</cp:lastPrinted>
  <dcterms:modified xsi:type="dcterms:W3CDTF">2012-02-06T01:48:37Z</dcterms:modified>
  <cp:revision>6</cp:revision>
  <dc:subject/>
  <dc:title>No Slide Title</dc:title>
</cp:coreProperties>
</file>