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n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almight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thy name to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to p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all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vict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reign ov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cient of D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incarnat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rd on thy mighty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yer atte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thy people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thy word succ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holi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us descen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Comfor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acred witness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glad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almighty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rule in ever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e'er from us de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powe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great One in Th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praise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,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overeign majes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in glory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ad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9:16:00Z</dcterms:created>
  <dc:creator>Gary Wintergerst</dc:creator>
  <dc:description/>
  <dc:language>en-US</dc:language>
  <cp:lastModifiedBy>Gary Wintergerst</cp:lastModifiedBy>
  <dcterms:modified xsi:type="dcterms:W3CDTF">2001-06-22T23:13:43Z</dcterms:modified>
  <cp:revision>6</cp:revision>
  <dc:subject/>
  <dc:title>No Slide Title</dc:title>
</cp:coreProperties>
</file>