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It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life, and let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ecrated, Lord,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moments and my d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flow in ceaseless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s, and let them 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impulse of thy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feet, and let them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 and beautiful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voice, and let me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, only, for my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lips, and let them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messages from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silver and my g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mite would I withh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intellect, and u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power as thou shalt choo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will, and make it t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hall be no longer m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eart, it is thine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hall be thy royal thr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love, my Lord, I p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y feet its treasure-st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self, and I wi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, only, all for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7T15:06:34Z</dcterms:created>
  <dc:creator>Gary Wintergerst</dc:creator>
  <dc:description/>
  <dc:language>en-US</dc:language>
  <cp:lastModifiedBy>U</cp:lastModifiedBy>
  <cp:lastPrinted>1995-08-07T15:04:32Z</cp:lastPrinted>
  <dcterms:modified xsi:type="dcterms:W3CDTF">1997-07-24T14:34:54Z</dcterms:modified>
  <cp:revision>3</cp:revision>
  <dc:subject/>
  <dc:title>No Slide Title</dc:title>
</cp:coreProperties>
</file>