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Wide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's Merc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wideness in God's merc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wideness of the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kindness in God's just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is more than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welcome for the sinn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ore graces for the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mercy with the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healing in hi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ve of God is broa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the measure of our m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heart of the Etern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ost wonderfully 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our love were but more sim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ould rest upon God's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lives would be illumi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resence of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9:30:00Z</dcterms:created>
  <dc:creator>Gary Wintergerst</dc:creator>
  <dc:description/>
  <dc:language>en-US</dc:language>
  <cp:lastModifiedBy>U</cp:lastModifiedBy>
  <cp:lastPrinted>1995-07-01T18:39:42Z</cp:lastPrinted>
  <dcterms:modified xsi:type="dcterms:W3CDTF">1997-07-24T00:29:52Z</dcterms:modified>
  <cp:revision>3</cp:revision>
  <dc:subject/>
  <dc:title>No Slide Title</dc:title>
</cp:coreProperties>
</file>