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H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Kind Ha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hands were kind hands, doing good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ing pain and sickness, blessing children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ing tired feet, and saving those who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hands were kind hands, doing good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s, Lord Jesus, let them work for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them strong and gentle, kind in all I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watch you, Jesus, till I'm gentle to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hands are kind hands, quick to work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50:30Z</dcterms:created>
  <dc:creator>Gary Wintergerst</dc:creator>
  <dc:description/>
  <dc:language>en-US</dc:language>
  <cp:lastModifiedBy>U</cp:lastModifiedBy>
  <cp:lastPrinted>1995-08-30T07:48:42Z</cp:lastPrinted>
  <dcterms:modified xsi:type="dcterms:W3CDTF">1997-07-24T05:00:18Z</dcterms:modified>
  <cp:revision>2</cp:revision>
  <dc:subject/>
  <dc:title>No Slide Title</dc:title>
</cp:coreProperties>
</file>