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spel Fe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to the gospel f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soul be Jesus' gu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need not one be left beh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hath bid all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by my Lord, on you I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invitation is to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the world! Come, sinner, thou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in Christ are ready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l ye souls by sin opp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restless wanderers after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poor, and maimed, and halt, and bl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a hearty welcome f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essage as from God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all may come to Christ and l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his love your hearts const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uffer him to die in v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time, no more del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Lord's accepted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hou, this moment, at his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for him who died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0:51:22Z</dcterms:created>
  <dc:creator>Gary Wintergerst</dc:creator>
  <dc:description/>
  <dc:language>en-US</dc:language>
  <cp:lastModifiedBy>U</cp:lastModifiedBy>
  <cp:lastPrinted>1995-08-11T16:01:02Z</cp:lastPrinted>
  <dcterms:modified xsi:type="dcterms:W3CDTF">1997-07-24T14:27:08Z</dcterms:modified>
  <cp:revision>5</cp:revision>
  <dc:subject/>
  <dc:title>No Slide Title</dc:title>
</cp:coreProperties>
</file>