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eople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Earth Do Dwe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7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eople that on earth do d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o the Lord with cheerful voi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 serve with mirth, his praise forth te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ye before him and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 that the Lord is God inde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our aid he did us m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his folk, he doth us f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 his sheep he doth us t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enter then his gates with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pproach with joy his courts unt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laud, and bless his name al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t is seemly so to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y! the Lord our God is g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mercy is forever 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at all times firmly st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from age to age end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36:58Z</dcterms:created>
  <dc:creator>Gary Wintergerst</dc:creator>
  <dc:description/>
  <dc:language>en-US</dc:language>
  <cp:lastModifiedBy>U</cp:lastModifiedBy>
  <cp:lastPrinted>1995-08-11T16:01:02Z</cp:lastPrinted>
  <dcterms:modified xsi:type="dcterms:W3CDTF">1997-07-22T18:23:52Z</dcterms:modified>
  <cp:revision>3</cp:revision>
  <dc:subject/>
  <dc:title>No Slide Title</dc:title>
</cp:coreProperties>
</file>