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, Whose Lo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 Reigning O'er U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100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80 William Boyd Grov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t we then our human voice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songs that faith would br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ve we then in human choice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ves that, like our music, sing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, Alleluia, joined in love our praises ring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, whose love is reigning o'er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urce of all, the ending tru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r the universal choru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aised in joyful praise to you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, Alleluia, worship ancient, worship new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rd of God from nature bring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ringtime green and autumn gol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untain streams like children singi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cean waves like thunder bold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, Alleluia, as creation's tale is tol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 God of ancient glor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oosing man and woman, too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br'am's faith and Sarah's stor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med a people bound to you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, Alleluia, to your covenant keep us tru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venant, new again in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rchild born to set us fr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nt to heal us, sent to teach u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love's children we might b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, Alleluia, risen Christ, our Savior h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29T10:15:00Z</dcterms:created>
  <dc:creator>Gary Wintergerst</dc:creator>
  <dc:description/>
  <dc:language>en-US</dc:language>
  <cp:lastModifiedBy>Gary Wintergerst</cp:lastModifiedBy>
  <cp:lastPrinted>1995-08-11T16:01:02Z</cp:lastPrinted>
  <dcterms:modified xsi:type="dcterms:W3CDTF">2003-05-26T21:31:31Z</dcterms:modified>
  <cp:revision>6</cp:revision>
  <dc:subject/>
  <dc:title>No Slide Title</dc:title>
</cp:coreProperties>
</file>