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nd Great,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Are Thy Th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and great, O God, are thy th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r of earth and sk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hands have set the heavens with st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ingers spread the mountains and plai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at thy word the waters were form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 seas obey thy v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nto us communion with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star abiding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unto us and dwell with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 are found the gifts of l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us with life that has no 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ife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7:06:32Z</dcterms:created>
  <dc:creator>Gary Wintergerst</dc:creator>
  <dc:description/>
  <dc:language>en-US</dc:language>
  <cp:lastModifiedBy>U</cp:lastModifiedBy>
  <cp:lastPrinted>1995-08-11T16:01:02Z</cp:lastPrinted>
  <dcterms:modified xsi:type="dcterms:W3CDTF">1997-07-24T00:35:56Z</dcterms:modified>
  <cp:revision>3</cp:revision>
  <dc:subject/>
  <dc:title>No Slide Title</dc:title>
</cp:coreProperties>
</file>