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a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Bethlehe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a song of Bethlehem, of shepherds watching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 the news that came to them from angels in the a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ght that shone on Bethlehem fills all the world to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' birth and peace on earth the angels sing al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a song of Nazareth, of sunny days of jo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of fragrant flowers' breath, and of the sinless B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now the flowers of Nazareth in every heart may g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spreads the fame of his dear name on all the winds that b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a song of Galilee, of lake and woods and h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m who walked upon the sea and bade the waves be st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gh like waves on Galilee, dark seas of trouble ro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faith has heard the Master's word, falls peace upon the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 a song of Calvary, its glory and dism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m who hung upon the tree, and took our sins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who died on Calvary is risen from the gr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, our Lord, by heaven adored, is mighty now to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34:34Z</dcterms:created>
  <dc:creator>Gary Wintergerst</dc:creator>
  <dc:description/>
  <dc:language>en-US</dc:language>
  <cp:lastModifiedBy>U</cp:lastModifiedBy>
  <cp:lastPrinted>1995-08-11T16:01:02Z</cp:lastPrinted>
  <dcterms:modified xsi:type="dcterms:W3CDTF">1997-07-24T01:25:08Z</dcterms:modified>
  <cp:revision>3</cp:revision>
  <dc:subject/>
  <dc:title>No Slide Title</dc:title>
</cp:coreProperties>
</file>