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8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ervants of God, your Master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blish abroad his wonderful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me all-victorious of Jesus ext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is glorious and rules ove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uleth on high, almighty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he is nigh, his presence we h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congregation his triumph shal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cribing salvation to Jesus, our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alvation to God, who sits on the thron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cry aloud and honor the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aises of Jesus the angels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 down on their faces and worship the Lamb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adore and give him his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and power, all wisdom and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onor and blessing with angel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nks never ceasing and infinite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20:42:10Z</dcterms:created>
  <dc:creator>Gary Wintergerst</dc:creator>
  <dc:description/>
  <dc:language>en-US</dc:language>
  <cp:lastModifiedBy>U</cp:lastModifiedBy>
  <cp:lastPrinted>1995-07-13T19:38:40Z</cp:lastPrinted>
  <dcterms:modified xsi:type="dcterms:W3CDTF">1997-07-24T01:25:46Z</dcterms:modified>
  <cp:revision>4</cp:revision>
  <dc:subject/>
  <dc:title>No Slide Title</dc:title>
</cp:coreProperties>
</file>