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, Sweet Spiri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3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2 Manna Music,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weet, sweet Spirit in this pl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know that it's the Spirit of the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are sweet expressions on each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know they feel the presence of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 Holy Spirit, sweet heavenly D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 right here with us, filling us with your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or these blessings we lift our hearts in prai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a doubt we'll know that we have been reviv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shall leave this pl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2T14:20:04Z</dcterms:created>
  <dc:creator>Gary Wintergerst</dc:creator>
  <dc:description/>
  <dc:language>en-US</dc:language>
  <cp:lastModifiedBy>Gary Wintergerst</cp:lastModifiedBy>
  <cp:lastPrinted>1995-08-02T14:03:38Z</cp:lastPrinted>
  <dcterms:modified xsi:type="dcterms:W3CDTF">1999-11-12T22:45:08Z</dcterms:modified>
  <cp:revision>3</cp:revision>
  <dc:subject/>
  <dc:title>No Slide Title</dc:title>
</cp:coreProperties>
</file>