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Day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urrec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0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7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day of resurrec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Emmaus we retur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confused, amazed, and frighten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omes to us, un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this stranger asks a ques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What is this which troubles you?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ets us in our pain and suffer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walks with us, un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trouble, words come from h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rning fire within our hear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s to us the scripture's mean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speaks to us, un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near our destinat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ask the stranger 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yields unto our urg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stays with us, un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of sorrow is forgott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guest becomes the ho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ing bread and blessing, brea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himself made 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ed eyes, renewed convictio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urney back to scenes of p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ing all that Christ is ris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through us made 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2T21:55:5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2T22:34:52Z</dcterms:modified>
  <cp:revision>4</cp:revision>
  <dc:subject/>
  <dc:title>No Slide Title</dc:title>
</cp:coreProperties>
</file>