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der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1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eaning o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eaning o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eaning o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ied on Calva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4000"/>
          </a:bodyPr>
          <a:p>
            <a:pPr marL="859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279f"/>
                </a:solidFill>
                <a:latin typeface="Arial"/>
              </a:rPr>
              <a:t>(Tell me, how did you feel when you come out,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wilder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wilder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wilderness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279f"/>
                </a:solidFill>
                <a:latin typeface="Arial"/>
              </a:rPr>
              <a:t>(Tell me, how did you feel when you come out,)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wilder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Lor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eaning o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eaning o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eaning o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ied on Calva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4000"/>
          </a:bodyPr>
          <a:p>
            <a:pPr marL="859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279f"/>
                </a:solidFill>
                <a:latin typeface="Arial"/>
              </a:rPr>
              <a:t>(Did you love everybody when you come out,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wilder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wilder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wilderness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279f"/>
                </a:solidFill>
                <a:latin typeface="Arial"/>
              </a:rPr>
              <a:t>(Did you love everybody when you come out,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wilder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Lor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eaning o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eaning o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eaning o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ied on Calva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4000"/>
          </a:bodyPr>
          <a:p>
            <a:pPr marL="859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279f"/>
                </a:solidFill>
                <a:latin typeface="Arial"/>
              </a:rPr>
              <a:t>(Did your soul feel happy when you come out,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wilder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wilder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wilderness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279f"/>
                </a:solidFill>
                <a:latin typeface="Arial"/>
              </a:rPr>
              <a:t>(Did your soul feel happy when you come out,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out the wilder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ning on the Lor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eaning o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eaning o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leaning o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ied on Calva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1T21:30:30Z</dcterms:created>
  <dc:creator>Gary Wintergerst</dc:creator>
  <dc:description/>
  <dc:language>en-US</dc:language>
  <cp:lastModifiedBy>U</cp:lastModifiedBy>
  <cp:lastPrinted>1996-01-02T16:39:40Z</cp:lastPrinted>
  <dcterms:modified xsi:type="dcterms:W3CDTF">1997-07-24T15:49:28Z</dcterms:modified>
  <cp:revision>5</cp:revision>
  <dc:subject/>
  <dc:title>No Slide Title</dc:title>
</cp:coreProperties>
</file>