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kingdom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se of thine abo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our blest Redeemer sa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own preciou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church, O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walls before thee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as the apple of thine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ven on th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my tears shall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my prayers asc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r my cares and toils be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oils and cares shall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my highest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prize her heavenl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weet communion, solemn v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hymns of love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as thy truth shall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Zion shall b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ghtest glories earth can yie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ghter bliss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9:08Z</dcterms:created>
  <dc:creator>Gary Wintergerst</dc:creator>
  <dc:description/>
  <dc:language>en-US</dc:language>
  <cp:lastModifiedBy>U</cp:lastModifiedBy>
  <cp:lastPrinted>1995-08-11T16:01:02Z</cp:lastPrinted>
  <dcterms:modified xsi:type="dcterms:W3CDTF">1997-07-24T16:39:46Z</dcterms:modified>
  <cp:revision>3</cp:revision>
  <dc:subject/>
  <dc:title>No Slide Title</dc:title>
</cp:coreProperties>
</file>