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, That Made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th and Heav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8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, that madest earth and heaven, darkness and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he day for toil hast given, for rest the night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ine angel guards defend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lumber sweet thy mercy send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dreams and hopes attend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livelong n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constant sun returning unseals our ey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, born anew like morning, to labor r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rd us for the task that calls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not ease and self enthrall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ong through thee whate'er befall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 most wi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20:00:56Z</dcterms:created>
  <dc:creator>Gary Wintergerst</dc:creator>
  <dc:description/>
  <dc:language>en-US</dc:language>
  <cp:lastModifiedBy>U</cp:lastModifiedBy>
  <cp:lastPrinted>1995-12-28T04:35:12Z</cp:lastPrinted>
  <dcterms:modified xsi:type="dcterms:W3CDTF">1997-07-24T17:34:54Z</dcterms:modified>
  <cp:revision>4</cp:revision>
  <dc:subject/>
  <dc:title>No Slide Title</dc:title>
</cp:coreProperties>
</file>