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, Free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Communiqu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forgave my sin in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been born again in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Jesus' name I come 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his love as he told me t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aid, "Freely, freely you have recei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, freely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in my name, and because you belie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s will know that I liv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ower is given in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rth and heaven in Jesus'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Jesus' name I come 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his power as he told me t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aid, "Freely, freely you have recei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ly, freely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in my name, and because you belie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thers will know that I liv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23:00Z</dcterms:created>
  <dc:creator>Gary Wintergerst</dc:creator>
  <dc:description/>
  <dc:language>en-US</dc:language>
  <cp:lastModifiedBy>Gary Wintergerst</cp:lastModifiedBy>
  <cp:lastPrinted>1995-08-06T21:20:02Z</cp:lastPrinted>
  <dcterms:modified xsi:type="dcterms:W3CDTF">1999-11-12T23:00:27Z</dcterms:modified>
  <cp:revision>4</cp:revision>
  <dc:subject/>
  <dc:title>No Slide Title</dc:title>
</cp:coreProperties>
</file>