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as! and Di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avior Ble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9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as! and did my Savior ble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id my Sovereign di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ld he devote that sacred h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inners such as I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it for crimes that I have d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groaned upon the tre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azing pity! Grace unknow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ve beyond degr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l might the sun in darkness h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ut its glories 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God, the mighty mak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ed for his own creature's s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might I hide my blushing f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his dear cross appear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ssolve my heart in thankful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elt mine eyes to tea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drops of tears can ne'er rep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ebt of love I ow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, Lord, I give myself awa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all that I can d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7T17:30:04Z</dcterms:created>
  <dc:creator>Gary Wintergerst</dc:creator>
  <dc:description/>
  <dc:language>en-US</dc:language>
  <cp:lastModifiedBy>U</cp:lastModifiedBy>
  <cp:lastPrinted>1995-08-30T07:48:42Z</cp:lastPrinted>
  <dcterms:modified xsi:type="dcterms:W3CDTF">1997-07-24T05:03:32Z</dcterms:modified>
  <cp:revision>2</cp:revision>
  <dc:subject/>
  <dc:title>No Slide Title</dc:title>
</cp:coreProperties>
</file>