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s Little Light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 Min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585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s little light of mine, I'm goin'a let it shin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s little light of mine, I'm goin'a let it shin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s little light of mine, I'm goin'a let it shin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it shine, let it shine, let it shin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verywhere I go, I'm goin'a let it shin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verywhere I go, I'm goin'a let it shin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verywhere I go, I'm goin'a let it shin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it shine, let it shine, let it shin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through the night, I'm goin'a let it shin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through the night, I'm goin'a let it shin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through the night, I'm goin'a let it shin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it shine, let it shine, let it shin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15T20:16:10Z</dcterms:created>
  <dc:creator>Gary Wintergerst</dc:creator>
  <dc:description/>
  <dc:language>en-US</dc:language>
  <cp:lastModifiedBy>U</cp:lastModifiedBy>
  <cp:lastPrinted>1995-08-11T16:01:02Z</cp:lastPrinted>
  <dcterms:modified xsi:type="dcterms:W3CDTF">1997-07-24T16:56:34Z</dcterms:modified>
  <cp:revision>3</cp:revision>
  <dc:subject/>
  <dc:title>No Slide Title</dc:title>
</cp:coreProperties>
</file>