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e name of Jesus with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sorrow and of w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will joy and comfort giv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hen, where'er you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e name of Jesus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shield from every sn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emptations round you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that holy name in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precious name of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t thrills our souls with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is loving arms rece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ongs our tongues emplo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ame of Jesus b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prostrate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 in heaven we'll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journey is comple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name, O how sw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earth and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56:10Z</dcterms:created>
  <dc:creator>Gary Wintergerst</dc:creator>
  <dc:description/>
  <dc:language>en-US</dc:language>
  <cp:lastModifiedBy>U</cp:lastModifiedBy>
  <cp:lastPrinted>1995-08-11T16:01:02Z</cp:lastPrinted>
  <dcterms:modified xsi:type="dcterms:W3CDTF">1997-07-24T16:38:34Z</dcterms:modified>
  <cp:revision>3</cp:revision>
  <dc:subject/>
  <dc:title>No Slide Title</dc:title>
</cp:coreProperties>
</file>