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7160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71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71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7160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716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716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John R. Peacey, 197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16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(Public domai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f good courage, armed with heavenly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od's good Spirit daily to incr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n the kingdom we see face to f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en the faint, give courage to the wea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he afflicted; richly from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love supplies the grace and power we seek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streng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fast the good, be urgent for the r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der to no one evil; Christ at leng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overcome all darkness with his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streng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God's people every day and hou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rving Christ, our every gift empl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ing in the Holy Spirit's p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forth for God, go to the world in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12:46Z</dcterms:created>
  <dc:creator>Gary Wintergerst</dc:creator>
  <dc:description/>
  <dc:language>en-US</dc:language>
  <cp:lastModifiedBy>Gary Wintergerst</cp:lastModifiedBy>
  <cp:lastPrinted>1995-12-28T04:23:40Z</cp:lastPrinted>
  <dcterms:modified xsi:type="dcterms:W3CDTF">2003-06-14T15:36:45Z</dcterms:modified>
  <cp:revision>5</cp:revision>
  <dc:subject/>
  <dc:title>No Slide Title</dc:title>
</cp:coreProperties>
</file>