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7 United Church of Christ in Jap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4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, O Lord, like the 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down upon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. We seek your endles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ouls that hunger and thir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and agoniz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all be lost in dar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your guiding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, O Lord, like the w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ing down upon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. We seek your wondrou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ness that reject all s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y persist and c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us to complete vict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us all free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, O Lord, like the de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gently upon the hill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Word. We seek your endles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ife that suffers in str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dversities and hu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your healing power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ng for your new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42:1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4:35:19Z</dcterms:modified>
  <cp:revision>4</cp:revision>
  <dc:subject/>
  <dc:title>No Slide Title</dc:title>
</cp:coreProperties>
</file>