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Never Said 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mbalin' W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9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rucified my Lord, and he never said a mumbalin'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rucified my Lord, and he never said a mumbalin'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word, not a word, not a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nailed him to the tree, and he never said a mumbalin'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nailed him to the tree, and he never said a mumbalin'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word, not a word, not a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pierced him in the side, and he never said a mumbalin'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pierced him in the side, and he never said a mumbalin'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word, not a word, not a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blood came trickling down, and he never said a mumbalin'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blood came trickling down, and he never said a mumbalin'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word, not a word, not a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ung his head and died, and he never said a mumbalin'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ung his head and died, and he never said a mumbalin'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word, not a word, not a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21:39:20Z</dcterms:created>
  <dc:creator>Gary Wintergerst</dc:creator>
  <dc:description/>
  <dc:language>en-US</dc:language>
  <cp:lastModifiedBy>U</cp:lastModifiedBy>
  <cp:lastPrinted>1995-07-27T21:35:44Z</cp:lastPrinted>
  <dcterms:modified xsi:type="dcterms:W3CDTF">1997-07-24T05:03:18Z</dcterms:modified>
  <cp:revision>3</cp:revision>
  <dc:subject/>
  <dc:title>No Slide Title</dc:title>
</cp:coreProperties>
</file>