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ith All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In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ith all the saints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resurrection so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and sorrow, earth's dark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ormer days be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clouds are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the storms of time shall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's likeness we, aw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the everlasting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glory, far excee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eye has yet perceiv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iest hearts, for ages plea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that full joy conceiv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as promised, Christ prepares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on high our welcome wai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umble spirit shares 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s passed th'eternal gat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! heaven rej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lives, who once was d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we now the deathless v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of God, lift up your h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triarchs from the distant 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all longing for their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, psalmists, seers, and s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wait the glory gi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! O what wond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d on faith; what joy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, amidst earth's closing thund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shall stand before the thr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o enter that bright p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at glowing firmam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, with thee, O God Im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Jesus Christ whom thou has sent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8:38Z</dcterms:created>
  <dc:creator>Gary Wintergerst</dc:creator>
  <dc:description/>
  <dc:language>en-US</dc:language>
  <cp:lastModifiedBy>U</cp:lastModifiedBy>
  <cp:lastPrinted>1996-01-02T13:58:50Z</cp:lastPrinted>
  <dcterms:modified xsi:type="dcterms:W3CDTF">1997-07-24T17:49:30Z</dcterms:modified>
  <cp:revision>4</cp:revision>
  <dc:subject/>
  <dc:title>No Slide Title</dc:title>
</cp:coreProperties>
</file>