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the Ag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9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the ages, whose almighty ha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s forth in beauty all the starry ba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shining worlds in splen-dor through the ski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grateful songs before thy throne ari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love divine hath led us in the pa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is free land with thee our lot is ca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thou our ruler, guardian, guide, and st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Word our law, thy paths our chosen 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war's alarms, from deadly pestilen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thy strong arm our ever sure defen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true religion in our hearts increa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bounteous goodness nourish us in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fresh thy people on their toilsome 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us from night to never-ending d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all our lives with love and grace div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lory, laud, and praise be ever th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3T21:23:54Z</dcterms:created>
  <dc:creator>Gary Wintergerst</dc:creator>
  <dc:description/>
  <dc:language>en-US</dc:language>
  <cp:lastModifiedBy>U</cp:lastModifiedBy>
  <cp:lastPrinted>1995-08-11T16:01:02Z</cp:lastPrinted>
  <dcterms:modified xsi:type="dcterms:W3CDTF">1997-07-24T17:36:12Z</dcterms:modified>
  <cp:revision>4</cp:revision>
  <dc:subject/>
  <dc:title>No Slide Title</dc:title>
</cp:coreProperties>
</file>