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No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entered in those Wise Men th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reverently upon the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fered there, in his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gold and myrrh and frankincen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rst Noel the angel did s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o certain poor shepherds in fields as they l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ields where they lay keeping their sh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cold winter's night that was so d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ooked up and saw a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east, beyond them f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earth it gave great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it continued both day and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he light of that same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ee Wise Men came from country f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k for a king was their int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follow the star wherever it wen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ar drew nigh to the northw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Bethlehem it took its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it did both stop and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 over the place where Jesus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Noel, Noel,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s the King of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58:0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4:50Z</dcterms:modified>
  <cp:revision>2</cp:revision>
  <dc:subject/>
  <dc:title>No Slide Title</dc:title>
</cp:coreProperties>
</file>