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Es Rect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Righteous and Just Is th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ord of Our Lor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p: 2, Eng: 13, Sp/Eng: 2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divine word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were the heavens creat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from God's mouth came great breat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ing the stars of the mor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athered up, as in wineskins, all of the waters of the ocea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put the deeps in their chambers and made valleys from the riv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God, all earth and all peopl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 down to God, all you nation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piece works, grand and wondrous, 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command sprang to be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ose addicted to evil find their plans by God frustrat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God's judgments and God's plans are confirmed, proclaimed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su divina palab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eron creados los ciel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divine word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were the heavens creat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aliento de su boc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formaron los lucer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from God's mouth came great breat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ing the stars of the morn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como en odre recoge del inquieto mar las agu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athered up, as in wineskins, all of the waters of the ocean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abismo hace un estanque; de los rios las cañad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put the deeps in their chambers and made valleys from the riv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émale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óstrense todos los pueblo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God, all earth and all peopl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w down to God, all you nation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bras tan grandes y excels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u mandato surgier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piece works, grand and wondrous, 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command sprang to be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ustra el Señor los designios de los que en el mal se embriag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ose addicted to evil find their plans by God frustrat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sus planes y juicios se confirman y proclaman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God's judgments and God's plans are confirmed, proclaimed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su divina palab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eron creados los ciel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aliento de su boc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formaron los lucer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como en odre recoge del inquieto mar las agu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eous and just is the word of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 and marvelous are the Lord's work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e and right are what God l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it on thrones at God's righ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Lord's lovingkindness all the earth is filled with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1040" y="335268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 abismo hace un estanque; de los rios las cañad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palabra del Señor es rect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us obras son maravillos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justicia y el derec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enen tronos a su diest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de su misericordia llena está toda la tierr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émale toda la tier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óstrense todos los pueblo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bras tan grandes y excels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u mandato surgier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ustra el Señor los designios de los que en el mal se embriag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ólo sus planes y juicios se confirman y proclam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1:07:36Z</dcterms:created>
  <dc:creator>Gary Wintergerst</dc:creator>
  <dc:description/>
  <dc:language>en-US</dc:language>
  <cp:lastModifiedBy>Gary Wintergerst</cp:lastModifiedBy>
  <cp:lastPrinted>1995-08-29T11:20:42Z</cp:lastPrinted>
  <dcterms:modified xsi:type="dcterms:W3CDTF">1999-11-08T02:19:26Z</dcterms:modified>
  <cp:revision>8</cp:revision>
  <dc:subject/>
  <dc:title>No Slide Title</dc:title>
</cp:coreProperties>
</file>