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 Voces Para Celebr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Sp/Eng:1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Charles Wesley, 1739; Trans. by Frederico J. Pagura, 1987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0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1989 The United Methodist Publishing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 voces para celeb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 Libert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glorias de su majes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triunfos de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O for a thousand tongues to sing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my great Redeemer's  praise,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glories of my God and King,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triumphs of his grace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buen Señor, Maestro y Dio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pueda divulg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ious Master and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ist me to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040" y="335268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rato nombre y su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read through all the earth abro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nors of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" y="327672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dulce nombre de Jesú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libra del te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that charms our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ids our sorrows cea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s tristezas traelu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al pec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usic in the sinner's 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life, and health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ruye el poder del m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brinda libert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reaks the power of canceled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ts the prisoner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as impuro puede d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sant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n made the foulest cle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avail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2767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abla y al oir su voz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erto vivir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, and listening to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life the dead recei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alegra el triste coraz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pobres hallan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rnful, broken heart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poor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cuchen, sordos, al Señ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be el mundo a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him, ye deaf; his praise, ye du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osened tongues empl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 voces para celeb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 Libert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glorias de su majes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triunfos de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ojos salten, vean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iegos a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blind, behold your Savior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p, ye lame, for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risto, pues, conocer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racia del perd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, your head, you then shall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feel your sins forgiv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quí del cielo goz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cielo es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icipate your heaven be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wn that love is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35268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buen Señor, Maestro y Dio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pueda divulg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rato nombre y su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dulce nombre de Jesú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libra del te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s tristezas traelu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dón al peca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ruye el poder del m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brinda libert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as impuro puede d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sant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abla y al oir su voz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erto vivir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alegra el triste coraz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pobres hallan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cuchen, sordos, al Señ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be el mundo a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ojos salten, vean h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iegos a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risto, pues, conocer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racia del perd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quí del cielo goz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cielo es su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18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1-06-22T23:12:23Z</dcterms:modified>
  <cp:revision>6</cp:revision>
  <dc:subject/>
  <dc:title>No Slide Title</dc:title>
</cp:coreProperties>
</file>