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o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oft with thy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in him al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d on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friends of God's child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ose who are w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tting in not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essing to see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rushes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nd much time in secr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esus al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looking t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him thou shalt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riends in thy conduc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keness shall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im be thy gu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n not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bet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joy or in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follow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looking t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rust in his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ime to be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alm in th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thought and each mot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his contro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led by his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untain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soon shalt be f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ervice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34:06Z</dcterms:created>
  <dc:creator>Gary Wintergerst</dc:creator>
  <dc:description/>
  <dc:language>en-US</dc:language>
  <cp:lastModifiedBy>U</cp:lastModifiedBy>
  <cp:lastPrinted>1995-08-06T21:25:56Z</cp:lastPrinted>
  <dcterms:modified xsi:type="dcterms:W3CDTF">1997-07-24T14:34:28Z</dcterms:modified>
  <cp:revision>3</cp:revision>
  <dc:subject/>
  <dc:title>No Slide Title</dc:title>
</cp:coreProperties>
</file>