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Forth, O Beauteous Heavenly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sts. 2, 3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forth, O beauteous heavenly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sher in the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hepherds, shrink not with aff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ar the angels wa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, now weak in infan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nfidence and joy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 of Satan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eace eternal ma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night of wonder, night of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orn the Christ, our br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, not mighty to destr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id us love each o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ould he quit his kingly st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uch a world of greed and hat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eep humili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cured the world's salv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dearest child, into our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ve your crib behind you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e where the new life st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who seek and find you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the honor, thanks, and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your gifts this time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onquer and del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world, and us,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00:2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54:42Z</dcterms:modified>
  <cp:revision>3</cp:revision>
  <dc:subject/>
  <dc:title>No Slide Title</dc:title>
</cp:coreProperties>
</file>