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, O My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ee Th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2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, O my Lord, I see thee face to f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would I touch and handle things unse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grasp with firmer hand eternal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my weariness upon thee lea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hour of banquet and of so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heavenly table spread for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let me feast, and feasting, still prolo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allowed hour of fellowship with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would I feed upon the bread of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drink with thee the royal wine of heav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would I lay aside each earthly lo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taste afresh the calm of sin forgi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o soon we rise; the symbols disapp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east, though not the love, is past and go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read and wine remove; but thou art 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er than ever, still my shield and su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ast after feast thus comes and passes b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, passing, points to the glad feast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ing sweet foretaste of the festal jo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amb's great bridal feast of bliss and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2:13:18Z</dcterms:created>
  <dc:creator>Gary Wintergerst</dc:creator>
  <dc:description/>
  <dc:language>en-US</dc:language>
  <cp:lastModifiedBy>U</cp:lastModifiedBy>
  <cp:lastPrinted>1995-12-25T20:29:48Z</cp:lastPrinted>
  <dcterms:modified xsi:type="dcterms:W3CDTF">1997-07-24T17:25:02Z</dcterms:modified>
  <cp:revision>4</cp:revision>
  <dc:subject/>
  <dc:title>No Slide Title</dc:title>
</cp:coreProperties>
</file>