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Is K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1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the Lord is King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ord and King ado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tals, give thanks and sing, and triumph evermo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up your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up your voice; rejoice; again I say, rejoi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the Savior reig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od of truth and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he had purged our stains, he took his seat ab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up your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up your voice; rejoice, again I say, rejoi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kingdom cannot fai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rules o'er earth and heav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eys of earth and hell are to our Jesus give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up your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up your voice; rejoice, again I say, rejoi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 in glorious hop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the Judge shall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ake his servants up to their eternal ho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oon shall h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'archangel's voice; the trump of God shall sound, rejoic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21:59:54Z</dcterms:created>
  <dc:creator>Gary Wintergerst</dc:creator>
  <dc:description/>
  <dc:language>en-US</dc:language>
  <cp:lastModifiedBy>U</cp:lastModifiedBy>
  <cp:lastPrinted>1995-08-11T16:01:02Z</cp:lastPrinted>
  <dcterms:modified xsi:type="dcterms:W3CDTF">1997-07-24T17:51:20Z</dcterms:modified>
  <cp:revision>3</cp:revision>
  <dc:subject/>
  <dc:title>No Slide Title</dc:title>
</cp:coreProperties>
</file>