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ry of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mpet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Chantry Music Press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ry of all trumpe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ry of all ki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ry of all songs that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ise, non-fulfi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raise, O Christ, one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ptain Christ, O lowly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ant King, your dy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de us sheathe the foolish s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de us cease deny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mpet with your Spirit's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ach height and ho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your self-giving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us all to fol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triumph of your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mmon all the li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mmon us to live by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ining all by gi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ffering all, that we may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 in surre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ing all, that we may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tners in your splend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9:10:24Z</dcterms:created>
  <dc:creator>Gary Wintergerst</dc:creator>
  <dc:description/>
  <dc:language>en-US</dc:language>
  <cp:lastModifiedBy>Gary Wintergerst</cp:lastModifiedBy>
  <cp:lastPrinted>1996-01-03T12:45:28Z</cp:lastPrinted>
  <dcterms:modified xsi:type="dcterms:W3CDTF">1999-11-14T00:20:01Z</dcterms:modified>
  <cp:revision>5</cp:revision>
  <dc:subject/>
  <dc:title>No Slide Title</dc:title>
</cp:coreProperties>
</file>