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6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Reginald Heber, 1826 (Rev. 4:8-1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36440" rIns="136440" tIns="457200" bIns="4572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 Almight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ly in the mor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ongs shall ris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rciful and migh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n three perso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Trinit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saints ador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sting down their golden crow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ound the glassy sea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erubim and seraph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lling down bef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wert and art,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more shalt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the darkness hid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the eye of sinful ma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lory may not s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00640" y="65311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hou art hol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none besid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ect in power, 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and pur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00640" y="65311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 Almight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y works shall praise thy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arth and sky and se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900640" y="65311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rciful and migh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n three perso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Tri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00640" y="65311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0T17:56:42Z</dcterms:created>
  <dc:creator>Gary Wintergerst</dc:creator>
  <dc:description/>
  <dc:language>en-US</dc:language>
  <cp:lastModifiedBy>Gary Wintergerst</cp:lastModifiedBy>
  <dcterms:modified xsi:type="dcterms:W3CDTF">2001-06-22T23:17:49Z</dcterms:modified>
  <cp:revision>7</cp:revision>
  <dc:subject/>
  <dc:title>No Slide Title</dc:title>
</cp:coreProperties>
</file>