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1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m Shall I Send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82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31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1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Fred Pratt Green, 1970 (Is. 6:8)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1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71 Hope Publishing C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m shall I send? our Maker crie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many, when they hear God's voi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re sure where their vocation lie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many shrink from such a choi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who can serve a God so pu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r claim to speak in such a na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le doubt makes every step unsu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elf confuses every aim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yet, believing God who call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nows what we are and still may b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past defeats, our future fall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dare to answer: Lord, send m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se who are called God purifi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daily gives us strength to ben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thoughts, our skills, our energi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life itself to this one e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16T15:51:58Z</dcterms:created>
  <dc:creator>Gary Wintergerst</dc:creator>
  <dc:description/>
  <dc:language>en-US</dc:language>
  <cp:lastModifiedBy>Gary Wintergerst</cp:lastModifiedBy>
  <cp:lastPrinted>1995-08-07T15:04:32Z</cp:lastPrinted>
  <dcterms:modified xsi:type="dcterms:W3CDTF">2003-06-14T15:05:38Z</dcterms:modified>
  <cp:revision>5</cp:revision>
  <dc:subject/>
  <dc:title>No Slide Title</dc:title>
</cp:coreProperties>
</file>