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 the Bo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torms in our lives, cruel and c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will aris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eatening lives, threatening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life's wild se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ful and great, God's hand is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ly in contro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calm peace comes from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comes to my lone soul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ely the boat, sailing at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ssed on a cold, stormy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el the sea which seemed so w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aves so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lor stood all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so helpless w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winds arose in all their 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ssing the tiny lone bo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ves billowing high, tossing the b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and aflo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lor stood all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so helpless w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ing what to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mbling with fear, deep in des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for help all a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lor saw light from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elp can be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is here in my small b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by my 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I trust in the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n my life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Pleading for your mercy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a sinner lik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and, O Lord, calm to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Galil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save my life from all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a peaceful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lease be merciful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imes of calm and str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20:0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28:58Z</dcterms:modified>
  <cp:revision>5</cp:revision>
  <dc:subject/>
  <dc:title>No Slide Title</dc:title>
</cp:coreProperties>
</file>