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ngel came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lled the ston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ngel came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lled the ston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ngel came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lled the stone a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Savi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ailed him to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Savi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ailed him to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Savi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ailed him to the t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oseph begged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id it in the to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oseph begged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id it in the to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oseph begged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id it in the tomb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 Mary she came ru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-looking for m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 Mary she came ru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-looking for m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 Mary she came ru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-looking for my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ose, he rose, he rose from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will bear my spiri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8:35:54Z</dcterms:created>
  <dc:creator>Gary Wintergerst</dc:creator>
  <dc:description/>
  <dc:language>en-US</dc:language>
  <cp:lastModifiedBy>U</cp:lastModifiedBy>
  <cp:lastPrinted>1995-08-11T16:01:02Z</cp:lastPrinted>
  <dcterms:modified xsi:type="dcterms:W3CDTF">1997-07-24T14:24:28Z</dcterms:modified>
  <cp:revision>3</cp:revision>
  <dc:subject/>
  <dc:title>No Slide Title</dc:title>
</cp:coreProperties>
</file>