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 Know Who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Believ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1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not why God's wondrous g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e he hath made kn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why, unworthy, Christ in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deemed me for his 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 know whom I have believ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m persuaded that he is ab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eep that which I've committ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o him against that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not how this saving fai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e he did imp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how believing in his w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rought peace within my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 know whom I have believ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m persuaded that he is ab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eep that which I've committ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o him against that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not how the Spirit mo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vincing us of s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vealing Jesus through the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ing faith in hi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 know whom I have believ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m persuaded that he is ab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eep that which I've committ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o him against that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not when my Lord may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night or noonday fai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if I walk the vale with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meet him in the ai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 know whom I have believ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m persuaded that he is ab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keep that which I've committ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o him against that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32:12Z</dcterms:created>
  <dc:creator>Gary Wintergerst</dc:creator>
  <dc:description/>
  <dc:language>en-US</dc:language>
  <cp:lastModifiedBy>U</cp:lastModifiedBy>
  <cp:lastPrinted>1996-01-02T14:06:18Z</cp:lastPrinted>
  <dcterms:modified xsi:type="dcterms:W3CDTF">1997-07-24T17:50:44Z</dcterms:modified>
  <cp:revision>4</cp:revision>
  <dc:subject/>
  <dc:title>No Slide Title</dc:title>
</cp:coreProperties>
</file>