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Every V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dowed beneath th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orever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to our God, true to our native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every voice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l earth and heaven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with the harmonies of liber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rejoicing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s the listening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resound loud as the rolling s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the faith that the dark past has taught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hope that the present has brought u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the rising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new day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march on 'til victory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ny the road w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the chastening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lt in the days when hope unborn had d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ith a steady b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not our weary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place for which our fathers sigh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a way that with tears has been wate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ing our path thru the blood of the slaughte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from the gloomy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l now we stand at 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white gleam of our bright star is c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our weary y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our silent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hast brought us thus far on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hast by thy m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d us into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forever in the path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ay from the places, our God, where we met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hear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unk with the wine of the world, we forget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9:10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0-06-17T22:41:18Z</dcterms:modified>
  <cp:revision>7</cp:revision>
  <dc:subject/>
  <dc:title>No Slide Title</dc:title>
</cp:coreProperties>
</file>