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, loud hosann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children sa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pillared court and tem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ly anthem ra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, who had blessed t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folded to his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ildren sang thei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mplest and the b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livet they follo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an exultant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 palm branch wa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anting clear and 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de on in lowly st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corned that little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on his bidding wa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sanna in the highest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ncient song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our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heaven 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ever prais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life and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blissful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ly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5:00:1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0:56Z</dcterms:modified>
  <cp:revision>3</cp:revision>
  <dc:subject/>
  <dc:title>No Slide Title</dc:title>
</cp:coreProperties>
</file>