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From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lessings F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from whom all blessings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ing the saints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, who thy nature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y mystic body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us, in one spirit jo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till receive of t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for more on thee we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fillest all in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and actuate and gu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verse gifts to each div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ced according to th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ll our work fulfi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rom thy service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edful to each other pr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e the grace on each bestow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mpered by the ar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re we now, and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ho Jesus have put 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either bond nor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le nor female, Lord,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like death, hath all destro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ered all distinctions voi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s and sects and parties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O Christ, art all in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2T21:31:56Z</dcterms:created>
  <dc:creator>Gary Wintergerst</dc:creator>
  <dc:description/>
  <dc:language>en-US</dc:language>
  <cp:lastModifiedBy>U</cp:lastModifiedBy>
  <cp:lastPrinted>1995-08-07T15:04:32Z</cp:lastPrinted>
  <dcterms:modified xsi:type="dcterms:W3CDTF">1997-07-24T16:41:28Z</dcterms:modified>
  <cp:revision>3</cp:revision>
  <dc:subject/>
  <dc:title>No Slide Title</dc:title>
</cp:coreProperties>
</file>