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Praise to Go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Reigns Abov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126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Johann J. Schultz;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trans. By Frances E. Cox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praise to God who reigns ab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God of all creat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God of power, the God of l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God of our salvatio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healing balm my soul is fill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every faithless murmur stilled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God all praise and glor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ord is never far aw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through all grief distres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 ever present help and st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peace and joy and bless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with a mother's tender ha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gently leads the chosen band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God all praise and glor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us, all my toilsome way alo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ing aloud thy prais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earth may hear the grateful so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voice unwearied raise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joyful in the Lord, my hear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th soul and body bear your part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God all praise and glor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all who name Christ's holy na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God all praise and glor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all who own his power proclaim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oud the wondrous story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st each false idol from its thr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Christ is Lord, and Christ alon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God all praise and glor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02T17:19:30Z</dcterms:created>
  <dc:creator>Gary Wintergerst</dc:creator>
  <dc:description/>
  <dc:language>en-US</dc:language>
  <cp:lastModifiedBy>Gary Wintergerst</cp:lastModifiedBy>
  <cp:lastPrinted>1995-07-01T19:36:46Z</cp:lastPrinted>
  <dcterms:modified xsi:type="dcterms:W3CDTF">2002-06-19T02:53:21Z</dcterms:modified>
  <cp:revision>4</cp:revision>
  <dc:subject/>
  <dc:title>No Slide Title</dc:title>
</cp:coreProperties>
</file>