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, Our Hel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ges Pa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1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, our help in ages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ope for years to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helter from the stormy bl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eternal h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der the shadow of thy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may we dwell sec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fficient is thine arm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defense is 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the hills in order st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earth received her fr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erlasting, thou art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ndless years the s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thousand ages, in th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like an evening g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rt as the watch that ends the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the rising s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, like an ever rolling stre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s all who breathe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fly forgotten, as a drea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es at the opening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, our help in ages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ope for years to c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our guide while life shall l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eternal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18:04:46Z</dcterms:created>
  <dc:creator>Gary Wintergerst</dc:creator>
  <dc:description/>
  <dc:language>en-US</dc:language>
  <cp:lastModifiedBy>U</cp:lastModifiedBy>
  <cp:lastPrinted>1995-07-01T18:39:42Z</cp:lastPrinted>
  <dcterms:modified xsi:type="dcterms:W3CDTF">1997-07-22T20:26:56Z</dcterms:modified>
  <cp:revision>6</cp:revision>
  <dc:subject/>
  <dc:title>No Slide Title</dc:title>
</cp:coreProperties>
</file>