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Jordan's Stor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ks I St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Jordan's stormy banks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st a wishful e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anaan's fair and happy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y possessions li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who will come and go with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those wide extended pl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s one eternal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God the Son forever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catters night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who will come and go with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chilling winds or poisonous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reach that healthful sh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ckness and sorrow, pain and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felt and feared no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who will come and go with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hall reach that happy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be forever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shall see my Father'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his bosom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who will come and go with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bound for the promised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20:21:32Z</dcterms:created>
  <dc:creator>Gary Wintergerst</dc:creator>
  <dc:description/>
  <dc:language>en-US</dc:language>
  <cp:lastModifiedBy>U</cp:lastModifiedBy>
  <cp:lastPrinted>1996-01-02T15:09:16Z</cp:lastPrinted>
  <dcterms:modified xsi:type="dcterms:W3CDTF">1997-07-24T17:52:26Z</dcterms:modified>
  <cp:revision>4</cp:revision>
  <dc:subject/>
  <dc:title>No Slide Title</dc:title>
</cp:coreProperties>
</file>