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We G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Riv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we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bright angel feet have t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its crystal tide for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ing by the throne of Go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ll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, the beautiful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with the saints at the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lows by the thron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margin of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ing up its silver s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walk and worship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happy golden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ll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, the beautiful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with the saints at the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lows by the thron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e we reach the shining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we every burden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our spirits will del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ovide a robe and cr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ll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, the beautiful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with the saints at the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lows by the thron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we'll reach the shining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our pilgrimage will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our happy hearts will qu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melody of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ll gather at the r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, the beautiful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with the saints at the r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flows by the throne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2:12:56Z</dcterms:created>
  <dc:creator>Gary Wintergerst</dc:creator>
  <dc:description/>
  <dc:language>en-US</dc:language>
  <cp:lastModifiedBy>U</cp:lastModifiedBy>
  <cp:lastPrinted>1995-08-11T16:01:02Z</cp:lastPrinted>
  <dcterms:modified xsi:type="dcterms:W3CDTF">1997-07-24T17:52:10Z</dcterms:modified>
  <cp:revision>3</cp:revision>
  <dc:subject/>
  <dc:title>No Slide Title</dc:title>
</cp:coreProperties>
</file>