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Th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terious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this mysterious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st in Emmaus 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, herewith our souls to f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y followers spea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seal the volume of thy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pply the gospel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eyes to see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know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 communing still, we mo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ou the veil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lk with us, and our hearts shall b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lames of ferven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kindle now the heavenly z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y mercy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our pardoned souls to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 and love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9:00Z</dcterms:created>
  <dc:creator>Gary Wintergerst</dc:creator>
  <dc:description/>
  <dc:language>en-US</dc:language>
  <cp:lastModifiedBy>U</cp:lastModifiedBy>
  <cp:lastPrinted>1995-08-11T16:01:02Z</cp:lastPrinted>
  <dcterms:modified xsi:type="dcterms:W3CDTF">1997-07-24T17:21:24Z</dcterms:modified>
  <cp:revision>3</cp:revision>
  <dc:subject/>
  <dc:title>No Slide Title</dc:title>
</cp:coreProperties>
</file>