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Ti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Feel the Spiri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0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time I feel the Spiri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ving in my heart, I will pr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every time I feel the Spiri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ving in my heart, I will pr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pon the mountain, my Lord spok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t his mouth came fire and smok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around me looks so sh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k my Lord if all was m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time I feel the Spiri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ving in my heart, I will pr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every time I feel the Spiri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ving in my heart, I will pr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rdan river runs right co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ls the body, not the sou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in't but one train on this track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uns to heaven and right back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8T08:42:10Z</dcterms:created>
  <dc:creator>Gary Wintergerst</dc:creator>
  <dc:description/>
  <dc:language>en-US</dc:language>
  <cp:lastModifiedBy>U</cp:lastModifiedBy>
  <cp:lastPrinted>1995-08-07T15:04:32Z</cp:lastPrinted>
  <dcterms:modified xsi:type="dcterms:W3CDTF">1997-07-24T15:47:58Z</dcterms:modified>
  <cp:revision>3</cp:revision>
  <dc:subject/>
  <dc:title>No Slide Title</dc:title>
</cp:coreProperties>
</file>