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of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Ag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of Christ, in every 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et by change but Spirit-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claim and test its herit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on rising from the d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ross the world, across the str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ims of injustice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helter and for bread to 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ver live until they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the servant church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aring church that longs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rtner in Christ's sacrif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thed in Christ's huma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alone, whose blood was 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cure the fever in our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ach us how to share our b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d the starving mul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no mission but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ull obedience to our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re for all, without reser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read his liberat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22:0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1:07:07Z</dcterms:modified>
  <cp:revision>5</cp:revision>
  <dc:subject/>
  <dc:title>No Slide Title</dc:title>
</cp:coreProperties>
</file>