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Have Pu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Chris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0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69 IC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have put on Chri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Christ you have been baptize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4T21:14:54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14T02:16:11Z</dcterms:modified>
  <cp:revision>4</cp:revision>
  <dc:subject/>
  <dc:title>No Slide Title</dc:title>
</cp:coreProperties>
</file>