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read Whi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Brok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read which you have br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ine which you have pou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ds which you have sp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we give you thanks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s pledge that you do lo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gift of peace resto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call to heaven abo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all our lives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ur sainted ones in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ted at the heavenly bo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church that's waiting for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love's tie unbroken,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service, Lord, defe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hearts keep watch and wa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orld where you have sent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kingdom come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24:18Z</dcterms:created>
  <dc:creator>Gary Wintergerst</dc:creator>
  <dc:description/>
  <dc:language>en-US</dc:language>
  <cp:lastModifiedBy>U</cp:lastModifiedBy>
  <cp:lastPrinted>1995-12-25T20:19:22Z</cp:lastPrinted>
  <dcterms:modified xsi:type="dcterms:W3CDTF">1997-07-24T17:21:38Z</dcterms:modified>
  <cp:revision>3</cp:revision>
  <dc:subject/>
  <dc:title>No Slide Title</dc:title>
</cp:coreProperties>
</file>