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wing L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weet Chario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703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wing low, sweet chario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ing for to carry me ho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wing low, sweet chario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ing for to carry me ho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wing low, sweet chario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ing for to carry me ho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wing low, sweet chario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ing for to carry me ho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looked over Jordan, and what did I s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ing for to carry me home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band of angels coming after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ing for to carry me ho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wing low, sweet chario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ing for to carry me ho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wing low, sweet chario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ing for to carry me ho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f you get there before I d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ing for to carry me ho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ll all my friends I'm coming to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ing for to carry me ho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wing low, sweet chario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ing for to carry me ho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wing low, sweet chario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ing for to carry me ho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m sometimes up, I'm sometimes dow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ing for to carry me ho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still my souls feels heavenly bou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ing for to carry me ho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wing low, sweet chario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ing for to carry me ho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wing low, sweet chario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ing for to carry me ho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brightest day that I can s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ing for to carry me ho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Jesus washed my sins aw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ing for to carry me ho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23T21:27:24Z</dcterms:created>
  <dc:creator>Gary Wintergerst</dc:creator>
  <dc:description/>
  <dc:language>en-US</dc:language>
  <cp:lastModifiedBy>U</cp:lastModifiedBy>
  <cp:lastPrinted>1995-08-11T16:01:02Z</cp:lastPrinted>
  <dcterms:modified xsi:type="dcterms:W3CDTF">1997-07-24T17:49:34Z</dcterms:modified>
  <cp:revision>4</cp:revision>
  <dc:subject/>
  <dc:title>No Slide Title</dc:title>
</cp:coreProperties>
</file>