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Y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 in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6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ho reigns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hom we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, Son, and Holy G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od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ye pure in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glorious banner wave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ss of Christ your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clear hosannas 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eluias lou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st answering echoes upward flo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reaths of incense clou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on through life's long p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chanting as y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th to age, by night and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ladness and in wo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last the march shall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earied ones shall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ilgrims find their heavenly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rusalem the bl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sanna!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19:41:48Z</dcterms:created>
  <dc:creator>Gary Wintergerst</dc:creator>
  <dc:description/>
  <dc:language>en-US</dc:language>
  <cp:lastModifiedBy>U</cp:lastModifiedBy>
  <cp:lastPrinted>1995-07-13T19:38:40Z</cp:lastPrinted>
  <dcterms:modified xsi:type="dcterms:W3CDTF">1997-07-24T01:13:00Z</dcterms:modified>
  <cp:revision>3</cp:revision>
  <dc:subject/>
  <dc:title>No Slide Title</dc:title>
</cp:coreProperties>
</file>