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mmortal, Invisi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nly W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03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mmortal, invisi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nly w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ight inaccessib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d from our ey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st blessed, most glor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ncient of D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mighty, victor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great name we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resting, unhast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lent as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wanting, nor wast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rulest in m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justice like mountai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 soaring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clouds which are fountai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goodness and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ll, life thou gi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oth great and sm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ll life thou li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ue life of 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lossom and flouris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leaves on the t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ther and peris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naught change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reignest in glo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wellest in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angels ad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veiling their s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laud we would render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elp us to see'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s only the splend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light hide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1T14:43:46Z</dcterms:created>
  <dc:creator>Gary Wintergerst</dc:creator>
  <dc:description/>
  <dc:language>en-US</dc:language>
  <cp:lastModifiedBy>U</cp:lastModifiedBy>
  <cp:lastPrinted>1995-07-01T14:43:28Z</cp:lastPrinted>
  <dcterms:modified xsi:type="dcterms:W3CDTF">1997-07-22T20:17:50Z</dcterms:modified>
  <cp:revision>4</cp:revision>
  <dc:subject/>
  <dc:title>No Slide Title</dc:title>
</cp:coreProperties>
</file>