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hold 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 Worl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2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5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hold a broken world, we pr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want and war increa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rant us, Lord, in this our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ancient dream of peac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dream of swords to sickles be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spears to scythe and spa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eapons of our warfare spe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world of peace remad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every battle flag is furl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very trumpet still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wars shall cease in all the wor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waking dream fulfill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force of arms shall there prevai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justice cease its s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shall their loftiest visions fai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reamers of the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rince of Peace, who died to sa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lost world to redee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rose in triumph from the gra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hold our waking drea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, Lord, your better world to bi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kingdom, love's dom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peace with God, and peace on ea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eace eternal reig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3T08:33:16Z</dcterms:created>
  <dc:creator>Gary Wintergerst</dc:creator>
  <dc:description/>
  <dc:language>en-US</dc:language>
  <cp:lastModifiedBy>Gary Wintergerst</cp:lastModifiedBy>
  <cp:lastPrinted>1996-01-03T12:38:48Z</cp:lastPrinted>
  <dcterms:modified xsi:type="dcterms:W3CDTF">1999-11-14T00:09:36Z</dcterms:modified>
  <cp:revision>5</cp:revision>
  <dc:subject/>
  <dc:title>No Slide Title</dc:title>
</cp:coreProperties>
</file>