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L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 Sweetly Jo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let us sweetly jo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o praise in hymns div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we all with one ac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our common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ds and hearts and voices 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s in the ancient day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edate the joy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the feast o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dear expected Gu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bidden to the fe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self our hearts prep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nd sit, and banquet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ctify us, Lord, and bl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 thy Spirit, give thy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yself within us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our feast a feast o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20:09:48Z</dcterms:created>
  <dc:creator>Gary Wintergerst</dc:creator>
  <dc:description/>
  <dc:language>en-US</dc:language>
  <cp:lastModifiedBy>U</cp:lastModifiedBy>
  <cp:lastPrinted>1995-12-28T04:47:12Z</cp:lastPrinted>
  <dcterms:modified xsi:type="dcterms:W3CDTF">1997-07-24T17:36:20Z</dcterms:modified>
  <cp:revision>4</cp:revision>
  <dc:subject/>
  <dc:title>No Slide Title</dc:title>
</cp:coreProperties>
</file>