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pth of Merc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5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pth of mercy! Can there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rcy still reserved for m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 my God his wrath forb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, the chief of sinners, spar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long withstood his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ng provoked him to his f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uld not hearken to his call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ieved him by a thousand fall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my Master have deni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fresh have crucifi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t profaned his hallowed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t him to an open sh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for me the Savior sta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ws his wounds and spreads his hand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love! I know, I fee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weeps and loves me sti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incline me to repe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e now my sins lame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my foul revolt depl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ep, believe, and sin no 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4T21:11:08Z</dcterms:created>
  <dc:creator>Gary Wintergerst</dc:creator>
  <dc:description/>
  <dc:language>en-US</dc:language>
  <cp:lastModifiedBy>U</cp:lastModifiedBy>
  <cp:lastPrinted>1995-08-07T15:04:32Z</cp:lastPrinted>
  <dcterms:modified xsi:type="dcterms:W3CDTF">1997-07-24T14:29:34Z</dcterms:modified>
  <cp:revision>2</cp:revision>
  <dc:subject/>
  <dc:title>No Slide Title</dc:title>
</cp:coreProperties>
</file>