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al Us, Emmanue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ar Our Prayer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266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al us, Emmanuel, hear our prayer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wait to feel thy touch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eep-wounded souls to thee repai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Savior, we are such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 faith is feeble, we confes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faintly trust thy wor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t wilt thou pity us the less?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 that far from thee, Lord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member him who once applie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trembling for relief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"Lord, I believe," with tears he cried; "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help my unbelief!"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e, too, who touched thee in the pres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healing virtue stol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s answered, "Daughter, go in peace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y faith hath made thee whole."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ke her, with hopes and fears we com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touch thee if we may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send us not despairing hom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nd none unhealed away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2-06T14:02:50Z</dcterms:created>
  <dc:creator>Gary Wintergerst</dc:creator>
  <dc:description/>
  <dc:language>en-US</dc:language>
  <cp:lastModifiedBy>U</cp:lastModifiedBy>
  <cp:lastPrinted>1995-08-30T07:48:42Z</cp:lastPrinted>
  <dcterms:modified xsi:type="dcterms:W3CDTF">1997-07-24T04:59:02Z</dcterms:modified>
  <cp:revision>2</cp:revision>
  <dc:subject/>
  <dc:title>No Slide Title</dc:title>
</cp:coreProperties>
</file>