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lit Sk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9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glory, starlit sk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aring music, scholars' tru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ight of swallows, autumn lea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mory's treasure, grace of youth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are the gifts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s of love to mind and sen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dden is love's agon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endeavor, love's expen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at gives, gives everm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s with zeal, with eager han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ares not, keeps not, all outp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tures all, its all expe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ined is love in making fu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d in setting others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or in making many ri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k in giving power to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he who shows us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less hangs upon the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nails and crown of thor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f what God's love mus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God: no monarch h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ned in easy state to reig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s God, whose arms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hing, spent, the world sust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38:54Z</dcterms:created>
  <dc:creator>Gary Wintergerst</dc:creator>
  <dc:description/>
  <dc:language>en-US</dc:language>
  <cp:lastModifiedBy>U</cp:lastModifiedBy>
  <cp:lastPrinted>1995-08-11T16:01:02Z</cp:lastPrinted>
  <dcterms:modified xsi:type="dcterms:W3CDTF">1997-07-24T01:28:00Z</dcterms:modified>
  <cp:revision>3</cp:revision>
  <dc:subject/>
  <dc:title>No Slide Title</dc:title>
</cp:coreProperties>
</file>