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Shepherd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tched Their Flock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3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shepherds watched their flocks by n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seated on the grou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angel of the Lord came dow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lory shone arou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lory shone arou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Fear not!" said he, for mighty drea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d seized their troubled min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Glad tidings of great joy I br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all of humanki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all of humanki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To you, in David's town, this d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born of David's lin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Savior, who is Christ the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is shall be the sig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is shall be the sign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The heavenly babe you there shall fi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human view display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meanly wrapped in swathing band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n a manger lai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n a manger laid.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us spake the seraph and forthwit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ppeared a shining thro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angels praising God on hig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thus addressed their so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thus addressed their song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All glory be to God on hig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o the earth be pea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od will henceforth from heaven to eart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gin and never cea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gin and never cease!"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10T21:53:56Z</dcterms:created>
  <dc:creator>Gary Wintergerst</dc:creator>
  <dc:description/>
  <dc:language>en-US</dc:language>
  <cp:lastModifiedBy>U</cp:lastModifiedBy>
  <cp:lastPrinted>1995-08-30T07:48:42Z</cp:lastPrinted>
  <dcterms:modified xsi:type="dcterms:W3CDTF">1997-07-24T04:53:02Z</dcterms:modified>
  <cp:revision>2</cp:revision>
  <dc:subject/>
  <dc:title>No Slide Title</dc:title>
</cp:coreProperties>
</file>