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ribu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Communiqué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things he has d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blood he has save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power he has raise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things he ha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9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14:17Z</dcterms:modified>
  <cp:revision>3</cp:revision>
  <dc:subject/>
  <dc:title>No Slide Title</dc:title>
</cp:coreProperties>
</file>