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So In Has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so in haste, my he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faith in God, and wa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he linger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comes too lat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never cometh la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knoweth what is b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x not thyself in v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he cometh,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he cometh,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grudge the hours that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et that wait fo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oonest at the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oonest at the go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not gained with sp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old thee still,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shall wait his 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08:02Z</dcterms:created>
  <dc:creator>Gary Wintergerst</dc:creator>
  <dc:description/>
  <dc:language>en-US</dc:language>
  <cp:lastModifiedBy>U</cp:lastModifiedBy>
  <cp:lastPrinted>1995-08-07T15:04:32Z</cp:lastPrinted>
  <dcterms:modified xsi:type="dcterms:W3CDTF">1997-07-24T15:57:38Z</dcterms:modified>
  <cp:revision>3</cp:revision>
  <dc:subject/>
  <dc:title>No Slide Title</dc:title>
</cp:coreProperties>
</file>