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ok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, we look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in thy name ag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thyself the Prince of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our strife forever c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reconcil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tumbling block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to each unite, end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spread thy banner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of one heart and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, courteous, and 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ly, meek, in thought and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ogether like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or each other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the other's burdens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church the pattern g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how true believers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rom anger and from pr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us in God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depths of love exp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heights of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en with joy re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amily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wings of angels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how true believers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1:59:46Z</dcterms:created>
  <dc:creator>Gary Wintergerst</dc:creator>
  <dc:description/>
  <dc:language>en-US</dc:language>
  <cp:lastModifiedBy>U</cp:lastModifiedBy>
  <cp:lastPrinted>1995-08-07T15:04:32Z</cp:lastPrinted>
  <dcterms:modified xsi:type="dcterms:W3CDTF">1997-07-24T16:43:02Z</dcterms:modified>
  <cp:revision>3</cp:revision>
  <dc:subject/>
  <dc:title>No Slide Title</dc:title>
</cp:coreProperties>
</file>