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Christ m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ternal ages let his praises 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, I will shout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that cannot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wling storms of doubt and fear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iving Word of God I shall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Christ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to him eternally by love's strong 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coming daily with the Spirit's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I cannot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ing every moment to the Spirit'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ing in my Savior as my all in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on the promises of God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, sta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tanding on the promises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1:24:44Z</dcterms:created>
  <dc:creator>Gary Wintergerst</dc:creator>
  <dc:description/>
  <dc:language>en-US</dc:language>
  <cp:lastModifiedBy>U</cp:lastModifiedBy>
  <cp:lastPrinted>1995-08-03T18:23:58Z</cp:lastPrinted>
  <dcterms:modified xsi:type="dcterms:W3CDTF">1997-07-24T14:31:56Z</dcterms:modified>
  <cp:revision>3</cp:revision>
  <dc:subject/>
  <dc:title>No Slide Title</dc:title>
</cp:coreProperties>
</file>