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every soul by sin opp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mercy with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ill surely give you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rusting in hi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, only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, he will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Jesus shed his precious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blessings to best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unge now into the crimson f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shes bright as s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, only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, he will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is the truth, the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leads you into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e in him without de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are fully bl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, only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, he will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hen and join this holy b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 to glory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well in that celestial l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oys immortal f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, only trust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rust him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, he will sa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ave you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0:47:48Z</dcterms:created>
  <dc:creator>Gary Wintergerst</dc:creator>
  <dc:description/>
  <dc:language>en-US</dc:language>
  <cp:lastModifiedBy>U</cp:lastModifiedBy>
  <cp:lastPrinted>1995-08-11T16:01:02Z</cp:lastPrinted>
  <dcterms:modified xsi:type="dcterms:W3CDTF">1997-07-24T14:26:54Z</dcterms:modified>
  <cp:revision>3</cp:revision>
  <dc:subject/>
  <dc:title>No Slide Title</dc:title>
</cp:coreProperties>
</file>