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nta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All Ag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8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arvest is from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blessing is from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to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as we're plant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word deep in each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as sent sunshine and the r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e seedlings may gr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ert lands which seem barr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ers still might bloo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ing in God's promises, 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to God we will show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far as earthly eyes can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far as humble hands can to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arvest is from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blessing is from 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to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ntains are all aglow w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utumn colors so br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vers are filled with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ing life to our d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lden fields wave their praise to God'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untiful harv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tefully, skyward ari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joyous songs of prais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far as earthly eyes can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far as humble hands can to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arvest is from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blessing is from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to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land so abundant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the harvest bea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orchard is filled w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uscious, ripened new frui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 and rain by the Lord's desig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at proper ti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king hard, God has given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sons for deep gratitu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far as earthly eyes can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far as humble hands can to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arvest is from our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blessing is from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to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har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praise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ly spring is the time to s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od's rich seeds of li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king hard, tilling God's ea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ing prepara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forward to rewards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vest so plentifu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mised blessings will soon be ou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ach revel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far as earthly eyes can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ching far as humble hands can to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2:06:5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2:06:52Z</dcterms:modified>
  <cp:revision>4</cp:revision>
  <dc:subject/>
  <dc:title>No Slide Title</dc:title>
</cp:coreProperties>
</file>