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sp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isd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Medical Mission Sis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spring of Wisdom, hear our c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y ahead is parched and d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a source to satisf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hirst for sanctifying wa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dom for your faithfilled sons and daught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n of a New Day, put to f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errors of a nuclear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bearers of your loving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uddle closer to your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the lamp of hope a little hig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rden of Grace, your gift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cred signs are all a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hole of earth is holy gr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earn, from all of life expr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o grow in sowing seeds of bles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rden of Grace, your gift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cred signs are all a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hole of earth is holy gr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earn, from all of life expr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o grow in sowing seeds of bles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59:3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35:53Z</dcterms:modified>
  <cp:revision>4</cp:revision>
  <dc:subject/>
  <dc:title>No Slide Title</dc:title>
</cp:coreProperties>
</file>