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35320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I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Jesus 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70</a:t>
            </a:r>
            <a:endParaRPr b="1" lang="en-US" sz="4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a name I love to h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to sing its wor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sounds like music in my 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weetest name on ear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I love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I love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I love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he first loved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480" y="652932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tells me of a Savior's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died to set me fr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tells me of his precious bl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inner's perfect ple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480" y="6453360"/>
            <a:ext cx="311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I love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I love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I love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he first loved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480" y="652932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tells of one whose loving he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 feel my deepest wo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in each sorrow bears a p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none can bear below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480" y="6453360"/>
            <a:ext cx="311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I love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I love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I love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he first loved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480" y="652932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3T20:21:50Z</dcterms:created>
  <dc:creator>Gary Wintergerst</dc:creator>
  <dc:description/>
  <dc:language>en-US</dc:language>
  <cp:lastModifiedBy>U</cp:lastModifiedBy>
  <cp:lastPrinted>1995-07-13T20:15:06Z</cp:lastPrinted>
  <dcterms:modified xsi:type="dcterms:W3CDTF">1997-07-24T01:23:47Z</dcterms:modified>
  <cp:revision>2</cp:revision>
  <dc:subject/>
  <dc:title> O How I  Love Jesus    UMH 170</dc:title>
</cp:coreProperties>
</file>