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eadeth M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lessed Thou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28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eadeth me: O blessed though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ords with heavenly comfort fraugh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e'er I do, where'er I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' tis God's hand that leade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eadeth me, he leadeth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is own hand he leadeth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faithful follower I would b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by his hand he leadeth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imes mid scenes of deepest gloo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imes where Eden's bowers bloo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aters still, o'er troubled s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' tis his hand that leade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eadeth me, he leadeth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is own hand he leadeth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faithful follower I would b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by his hand he leadeth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ould place my hand in t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ever murmur nor rep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tent, whatever lot I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' tis my God that leade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eadeth me, he leadeth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is own hand he leadeth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faithful follower I would b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by his hand he leadeth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my task on earth is d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by thy grace the victory's w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'en death's cold wave I will not fl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God through Jordan leadeth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eadeth me, he leadeth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is own hand he leadeth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faithful follower I would b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by his hand he leadeth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2T17:54:04Z</dcterms:created>
  <dc:creator>Gary Wintergerst</dc:creator>
  <dc:description/>
  <dc:language>en-US</dc:language>
  <cp:lastModifiedBy>U</cp:lastModifiedBy>
  <cp:lastPrinted>1995-07-02T18:08:16Z</cp:lastPrinted>
  <dcterms:modified xsi:type="dcterms:W3CDTF">1997-07-24T00:31:10Z</dcterms:modified>
  <cp:revision>5</cp:revision>
  <dc:subject/>
  <dc:title>No Slide Title</dc:title>
</cp:coreProperties>
</file>