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untry,' tis of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land of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e I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where my fathers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of the pilgrims'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mountains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freedom 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native country,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nd of the nobl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 I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y rocks and r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woods and templed hill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with rapture thr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at ab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usic swell the bree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ng from all the tr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freedom's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ortal tongues aw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at breathe part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rocks their silence 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 pro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s'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uthor of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we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ay our land be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reedom's holy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tect us by thy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, our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20:30Z</dcterms:created>
  <dc:creator>Gary Wintergerst</dc:creator>
  <dc:description/>
  <dc:language>en-US</dc:language>
  <cp:lastModifiedBy>U</cp:lastModifiedBy>
  <cp:lastPrinted>1995-08-11T16:01:02Z</cp:lastPrinted>
  <dcterms:modified xsi:type="dcterms:W3CDTF">1997-07-24T17:36:04Z</dcterms:modified>
  <cp:revision>3</cp:revision>
  <dc:subject/>
  <dc:title>No Slide Title</dc:title>
</cp:coreProperties>
</file>