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r youthful days ar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ld age is steal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body bends beneath the weight of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never leave you th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ll go with you to the 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e world from you withh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its silver and its g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 have to get along with meager f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remember in his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e feeds the little bi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r body suffers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health you can't re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soul is almost sinking in des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knows the pain you fe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n save and he can h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trust and never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surely bring you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r enemies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r heart begins to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't forget that God in heaven answers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make a way for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ll lead you safely throu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it there, leave it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your burden to the Lord and leave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21:50:42Z</dcterms:created>
  <dc:creator>Gary Wintergerst</dc:creator>
  <dc:description/>
  <dc:language>en-US</dc:language>
  <cp:lastModifiedBy>U</cp:lastModifiedBy>
  <cp:lastPrinted>1995-08-07T15:04:32Z</cp:lastPrinted>
  <dcterms:modified xsi:type="dcterms:W3CDTF">1997-07-24T16:36:14Z</dcterms:modified>
  <cp:revision>4</cp:revision>
  <dc:subject/>
  <dc:title>No Slide Title</dc:title>
</cp:coreProperties>
</file>