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lmight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39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s. 2 &amp; 4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Lord! O let all that is in me adore him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hath life and breath, come now with praises before him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am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nd from his people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ly forever adore h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Lord, the Almighty, the King of creatio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y soul, praise him, for he is thy health and salvatio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ye who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o his temple draw n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me in glad adoratio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Lord, who o'er all things so wondrously reig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s thee on eagle's wings, e'er in his keeping maintain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care enfol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, whose true good he uphol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t thou not known his sustaining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Lord, who doth prosper thy work and defen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ly his goodness and mercy here daily attend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nder ane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he Almighty can 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th his love doth befriend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e Lord, who doth nourish thy life and rest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tting thee well for the tasks that are ever before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to thy ne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as a mother doth sp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eading the wings of grace o'er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3T22:00:50Z</dcterms:created>
  <dc:creator>Gary Wintergerst</dc:creator>
  <dc:description/>
  <dc:language>en-US</dc:language>
  <cp:lastModifiedBy>Gary Wintergerst</cp:lastModifiedBy>
  <cp:lastPrinted>1995-07-03T22:00:36Z</cp:lastPrinted>
  <dcterms:modified xsi:type="dcterms:W3CDTF">1999-11-08T02:37:39Z</dcterms:modified>
  <cp:revision>8</cp:revision>
  <dc:subject/>
  <dc:title>No Slide Title</dc:title>
</cp:coreProperties>
</file>