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Gr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de Rise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green blade ris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buried g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at that in the dark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days has 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lives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ith the dead has bee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ave they lai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ho had been s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ing that he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awak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id in the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grain that sleeps unse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he came at E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risen g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ho for three d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ave had 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 from the d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isen Lord is se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hearts are wint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ving, or in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touch can call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lif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ds of our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ead and bare have be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com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heat that springeth gre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7:49:04Z</dcterms:created>
  <dc:creator>Gary Wintergerst</dc:creator>
  <dc:description/>
  <dc:language>en-US</dc:language>
  <cp:lastModifiedBy>U</cp:lastModifiedBy>
  <cp:lastPrinted>1995-08-11T16:01:02Z</cp:lastPrinted>
  <dcterms:modified xsi:type="dcterms:W3CDTF">1997-07-24T14:23:52Z</dcterms:modified>
  <cp:revision>3</cp:revision>
  <dc:subject/>
  <dc:title>No Slide Title</dc:title>
</cp:coreProperties>
</file>