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Our Br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6 Joe W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our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sk you; take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ve you. Take our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ather, 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as we stand at the table you s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as we eat the bread our hearts can't forg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sign of your life with us y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our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sk you; take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ve you. Take our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ather, 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oly people standing washed in your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-filled yet hungry we await your f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poor, but we've brought ourselves the best we cou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our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sk you; take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ve you. Take our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ather, we are y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0:42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36:27Z</dcterms:modified>
  <cp:revision>4</cp:revision>
  <dc:subject/>
  <dc:title>No Slide Title</dc:title>
</cp:coreProperties>
</file>