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Uni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G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united by thy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ch to each endea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nfidence we seek thy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now our prayer is hea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to help each other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other's cross to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ir friendly aid aff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l each other's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unto thee, our living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in all things g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ou hast made us free ind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otless here be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ed by the lodestone of thy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our hearts ag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 toward each other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 move toward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inseparably joi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our spirits cle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all the loving m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s in thee rece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bond of perfec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potless chari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, still we pray, poss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ind that was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3T21:48:16Z</dcterms:created>
  <dc:creator>Gary Wintergerst</dc:creator>
  <dc:description/>
  <dc:language>en-US</dc:language>
  <cp:lastModifiedBy>U</cp:lastModifiedBy>
  <cp:lastPrinted>1995-08-07T15:04:32Z</cp:lastPrinted>
  <dcterms:modified xsi:type="dcterms:W3CDTF">1997-07-24T16:42:56Z</dcterms:modified>
  <cp:revision>2</cp:revision>
  <dc:subject/>
  <dc:title>No Slide Title</dc:title>
</cp:coreProperties>
</file>