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and Guardi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guide and guard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d-sped flame and hovering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 of life and voice of proph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gn of blessing, power of lo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ose who lead your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anointing of you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them forth as bold apost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church in every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Savior, sovereign,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love cruc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er, healer, suffering serv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 of sinners, foe of prid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tending may all pasto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and live a shepherd's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courage and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n through word and deed and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reator, life-best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th beyond all thought's re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 of wisdom, womb of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and forgiving 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 know our strength and weak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those the church exal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see her life steadfast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not overlook her faul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ne God, mysterious be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vided and diver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er than our minds can fath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than our creeds rehears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in our varied call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ull image to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ur ministries uni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ive glory to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8:1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40:49Z</dcterms:modified>
  <cp:revision>4</cp:revision>
  <dc:subject/>
  <dc:title>No Slide Title</dc:title>
</cp:coreProperties>
</file>