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Ve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t of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very thought of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weetness fills the br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weeter far thy face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y presence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pe of every contrite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oy of all the m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ose who fall, how kind thou 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ood to those who seek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at to those who find? Ah, th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ongue nor pen can sh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of Jesus, what it 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but his loved ones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only joy be th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our prize wilt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be thou our glory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54:28Z</dcterms:created>
  <dc:creator>Gary Wintergerst</dc:creator>
  <dc:description/>
  <dc:language>en-US</dc:language>
  <cp:lastModifiedBy>U</cp:lastModifiedBy>
  <cp:lastPrinted>1995-07-13T20:46:48Z</cp:lastPrinted>
  <dcterms:modified xsi:type="dcterms:W3CDTF">1997-07-24T01:45:44Z</dcterms:modified>
  <cp:revision>4</cp:revision>
  <dc:subject/>
  <dc:title>No Slide Title</dc:title>
</cp:coreProperties>
</file>