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465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’s Pow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53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5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the Spirit’s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accord the infant chur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essed its risen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Spirit, in the church to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less your pow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fellowhip disp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ith the mind of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us on f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unity may be our great desi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joy and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faith to hear your c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eadi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ch to work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n our love, good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mbrace in your strong ca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ose of every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ind and fire with life among us m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are known as Christ’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ians pr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19:49:26Z</dcterms:created>
  <dc:creator>Gary Wintergerst</dc:creator>
  <dc:description/>
  <dc:language>en-US</dc:language>
  <cp:lastModifiedBy>Gary Wintergerst</cp:lastModifiedBy>
  <dcterms:modified xsi:type="dcterms:W3CDTF">1999-11-14T00:42:18Z</dcterms:modified>
  <cp:revision>3</cp:revision>
  <dc:subject/>
  <dc:title>No Slide Title</dc:title>
</cp:coreProperties>
</file>