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Whos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the Sk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whose glory fills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true, the only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 of Righteousness, a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o'er the shades of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-spring from on high, be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tar, in my heart app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 and cheerless is the mo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ccompanied by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less is the day's ret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y mercy's beams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y inward light im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er my eyes and warm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sit then this soul of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erce the gloom of sin and grief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Radiancy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tter all my unbelief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and more thyself disp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to the perfec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31:36Z</dcterms:created>
  <dc:creator>Gary Wintergerst</dc:creator>
  <dc:description/>
  <dc:language>en-US</dc:language>
  <cp:lastModifiedBy>U</cp:lastModifiedBy>
  <cp:lastPrinted>1995-07-13T19:44:46Z</cp:lastPrinted>
  <dcterms:modified xsi:type="dcterms:W3CDTF">1997-07-24T01:24:12Z</dcterms:modified>
  <cp:revision>3</cp:revision>
  <dc:subject/>
  <dc:title>No Slide Title</dc:title>
</cp:coreProperties>
</file>