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stival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32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aster, slide 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Ascension, slide 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Pentecost, slide 3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life and of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low in us, fount of our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at enlightens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in all may ab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giver of go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r and author of con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your balm on our d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er our ways in your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ho was nailed to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uler and Lord of all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created on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o the glory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the loveliness grow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orned with the glory of blossom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her gates unb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inging her increase of l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Almighty,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uler of earth and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us from harm withou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us from evil with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health of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ighten our minds, great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life and of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low in us, fount of our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at enlightens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in all may ab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giver of go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r and author of con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your balm on our d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er our ways in your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risen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se in the heavens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fair beauty of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th of the winter aris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good gift of the y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its Master return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and in likeness of f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ose who await your appe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m the Lord had foreto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ddenly, swiftly descen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from the Father you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evenfold mystical offe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Almighty,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uler of earth and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us from harm withou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us from evil with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health of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ighten our minds, great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life and of pow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low in us, fount of our be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that enlightens us 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in all may abid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giver of go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r and author of con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your balm on our day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er our ways in your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the Holy Gho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in the world full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from the grave now, O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uthor of life and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ing the pathway of dea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life you give to us al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Almighty,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uler of earth and the heave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us from harm withou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us from evil with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e, festival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day to be hallowed for 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when our Lord was rai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ing the kingdom of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health of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ighten our minds, great Redeem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ing on all human soul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riches of Go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07:20Z</dcterms:created>
  <dc:creator>Gary Wintergerst</dc:creator>
  <dc:description/>
  <dc:language>en-US</dc:language>
  <cp:lastModifiedBy>Gary Wintergerst</cp:lastModifiedBy>
  <cp:lastPrinted>1995-07-10T20:06:04Z</cp:lastPrinted>
  <dcterms:modified xsi:type="dcterms:W3CDTF">1999-03-20T22:21:44Z</dcterms:modified>
  <cp:revision>9</cp:revision>
  <dc:subject/>
  <dc:title>No Slide Title</dc:title>
</cp:coreProperties>
</file>