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ay Thou Gav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s End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9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ay thou gavest, Lord, is end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arkness falls at thy behe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e our morning hymns ascend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praise shall hallow now our re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thank thee that thy church, unsleep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earth rolls onward into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all the world her watch is keep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rests not now by day or n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o'er each continent and isla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awn leads on another 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voice of prayer is never silen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die the strains of praise a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be it, Lord; thy throne shall ne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earth's proud empires, pass aw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kingdom stands, and grows fore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all thy creatures own thy s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20:03:36Z</dcterms:created>
  <dc:creator>Gary Wintergerst</dc:creator>
  <dc:description/>
  <dc:language>en-US</dc:language>
  <cp:lastModifiedBy>U</cp:lastModifiedBy>
  <cp:lastPrinted>1995-12-28T04:42:54Z</cp:lastPrinted>
  <dcterms:modified xsi:type="dcterms:W3CDTF">1997-07-24T17:35:24Z</dcterms:modified>
  <cp:revision>4</cp:revision>
  <dc:subject/>
  <dc:title>No Slide Title</dc:title>
</cp:coreProperties>
</file>