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a Thous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ngues to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5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harles Wesley, 173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a thousand tongues to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eat Redeemer's  prais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ies of my God and K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iumphs of his gra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cious Master and m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sist me to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read through all the earth abro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nors of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92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! the name that charms our f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ids our sorrows cea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usic in the sinner's ea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life, and health,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920" y="6531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reaks the power of canceled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ets the prisoner fr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can make the foulest clea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ood availed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2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peaks, and listening to his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life the dead recei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urnful, broken hearts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umble poor belie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92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him, ye deaf; his praise, ye dumb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osened tongues emplo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blind, behold your Savior c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p, ye lame, for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92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, your head, you then shall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feel your sins forgive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icipate your heaven bel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wn that love is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92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1:04:42Z</dcterms:created>
  <dc:creator>Gary Wintergerst</dc:creator>
  <dc:description/>
  <dc:language>en-US</dc:language>
  <cp:lastModifiedBy>Gary Wintergerst</cp:lastModifiedBy>
  <dcterms:modified xsi:type="dcterms:W3CDTF">2001-06-22T23:10:48Z</dcterms:modified>
  <cp:revision>5</cp:revision>
  <dc:subject/>
  <dc:title>No Slide Title</dc:title>
</cp:coreProperties>
</file>