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KEE, 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TSI-T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GREAT SPIRIT, NOW I PRAY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Kiowa: 2; Eng: 4; Ki/Eng: 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KEE, AIM DAW-TSI-TAW TO-AW-BAY T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AL DAW-KEE, AIM DAW-TSI-TAW TO-AW-B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H HAAL PBAY-GYA KEE AAL AI DAHM GYA D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KEAH PBAY-GYA YAH TSAHN-DAY-TOA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Spirit, now I pray to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pray now to you, Great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e; my soul is weary, now I p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r spirit will dwell i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KEE, AIM DAW-TSI-TAW TO-AW-BAY T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AL DAW-KEE, AIM DAW-TSI-TAW TO-AW-B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Spirit, now I pray to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pray now to you, Great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H HAAL PBAY-GYA KEE AAL AI DAHM GYA D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-KEAH PBAY-GYA YAH TSAHN-DAY-TOA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e; my soul is weary, now I p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r spirit will dwell i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8T16:06:3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2T22:43:16Z</dcterms:modified>
  <cp:revision>5</cp:revision>
  <dc:subject/>
  <dc:title>No Slide Title</dc:title>
</cp:coreProperties>
</file>