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, O Sleep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0 Augsburg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, O sleeper, rise from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 shall give you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earn his love, its length and bread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fullness, depth, and he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us on earth he came to b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in and fear re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ive the Spirit's un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ery bond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one body and one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pirit and one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, one faith, and one baptis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ather of u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alk in love as Christ has lo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that he might s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kind and gentle hearts for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od in Christ forg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Christ lived, for us he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quered in the str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, arise, go forth in fai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 shall give you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2T21:35:3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51:24Z</dcterms:modified>
  <cp:revision>4</cp:revision>
  <dc:subject/>
  <dc:title>No Slide Title</dc:title>
</cp:coreProperties>
</file>