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Love Is Fou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4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3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love is found and hope comes h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nd be glad that two are o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love explodes and fills the sk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and share our Maker's j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love has flowered in trust and c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ild both each day, that love may d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reach beyond home's warmth and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rve and strive for truth and r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love is tried as loved ones chang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d still to hope though all seems strang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ease returns, and love grows w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listening ears and opened ey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love is torn and trust betray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 strength to love till torments fa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lovers keep no score of wr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hear through pain love's Easter s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for love, praise God for l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ge or youth, in husband, wif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hearts, let love be f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death and life in broken br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5T19:54:58Z</dcterms:created>
  <dc:creator>Gary Wintergerst</dc:creator>
  <dc:description/>
  <dc:language>en-US</dc:language>
  <cp:lastModifiedBy>Gary Wintergerst</cp:lastModifiedBy>
  <cp:lastPrinted>1995-12-25T20:46:26Z</cp:lastPrinted>
  <dcterms:modified xsi:type="dcterms:W3CDTF">1999-11-14T02:38:44Z</dcterms:modified>
  <cp:revision>5</cp:revision>
  <dc:subject/>
  <dc:title>No Slide Title</dc:title>
</cp:coreProperties>
</file>