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5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 and women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the water provided for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you who are thir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 to drink from the water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ed by Jesus y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ers of burden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ive you rest; don't wait for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you who are we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, the Christ Jesus th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vior, King of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ouble-minded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ive you peace, the peaceful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you who are hung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, receive bread and water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ed by Jesus y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of you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ngry and poor, come for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y your milk and wine without mone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or free, bring no penn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, receive the bread and water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ed by Jesus y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39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52:34Z</dcterms:modified>
  <cp:revision>4</cp:revision>
  <dc:subject/>
  <dc:title>No Slide Title</dc:title>
</cp:coreProperties>
</file>