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W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o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what a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what a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my Lord, what a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tars begin to f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ll hear the trumpet s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ke the nations underg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to my God's right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tars begin to f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what a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what a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my Lord, what a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tars begin to f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ll hear the sinner mo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ke the nations underg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to my God's right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tars begin to f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what a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what a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my Lord, what a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tars begin to f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ll hear the Christian shou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ke the nations underg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to my God's right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tars begin to f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20:09:24Z</dcterms:created>
  <dc:creator>Gary Wintergerst</dc:creator>
  <dc:description/>
  <dc:language>en-US</dc:language>
  <cp:lastModifiedBy>U</cp:lastModifiedBy>
  <cp:lastPrinted>1996-01-02T14:13:36Z</cp:lastPrinted>
  <dcterms:modified xsi:type="dcterms:W3CDTF">1997-07-24T17:51:50Z</dcterms:modified>
  <cp:revision>4</cp:revision>
  <dc:subject/>
  <dc:title>No Slide Title</dc:title>
</cp:coreProperties>
</file>