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Sparr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Wha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2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Jaroslav J. Vaj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sparr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wha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swirling st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A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earthqu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stor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trumpet bla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cry Wo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cry S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rainb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empty gr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Thank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hung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sic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prodig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C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neighb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fo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pruning hoo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es the creature say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ag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near at h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loving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 your children say J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do your children say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20:46:48Z</dcterms:created>
  <dc:creator>Gary Wintergerst</dc:creator>
  <dc:description/>
  <dc:language>en-US</dc:language>
  <cp:lastModifiedBy>Gary Wintergerst</cp:lastModifiedBy>
  <cp:lastPrinted>1995-07-01T19:36:46Z</cp:lastPrinted>
  <dcterms:modified xsi:type="dcterms:W3CDTF">1999-11-08T02:32:17Z</dcterms:modified>
  <cp:revision>5</cp:revision>
  <dc:subject/>
  <dc:title>No Slide Title</dc:title>
</cp:coreProperties>
</file>