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alls me from a world of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s me at my Father's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ll my wants and wishes kn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easons of distress and grie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has often found relie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t escaped the tempter's sn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return, sweet hour of pray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s I feel, the bliss I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ose whose anxious spirits b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trong desires for thy retur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uch I hasten to the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God my Savior shows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adly take my station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it for thee, sweet hour of pray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hour of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ings shall my petition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whose truth and faithful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gage the waiting soul to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ce he bids me seek hi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e his word, and trust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cast on him my every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it for thee, sweet hour of pray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53:20Z</dcterms:created>
  <dc:creator>Gary Wintergerst</dc:creator>
  <dc:description/>
  <dc:language>en-US</dc:language>
  <cp:lastModifiedBy>U</cp:lastModifiedBy>
  <cp:lastPrinted>1995-08-11T16:01:02Z</cp:lastPrinted>
  <dcterms:modified xsi:type="dcterms:W3CDTF">1997-07-24T16:07:48Z</dcterms:modified>
  <cp:revision>3</cp:revision>
  <dc:subject/>
  <dc:title>No Slide Title</dc:title>
</cp:coreProperties>
</file>