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Sinn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or and Need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sinners, poor and nee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k and wounded, sick and s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ready stands to sa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pity, love, and pow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arise and go to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embrace me with his 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rms of my dea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re are ten thousand ch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thirsty, come, and wel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free bounty glorif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 belief and true repent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grace that brings you n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arise and go to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embrace me with his 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rms of my dea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re are ten thousand ch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ye weary, heavy la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t and ruined by the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tarry till you're bet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ill never come at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arise and go to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embrace me with his 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rms of my dea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re are ten thousand ch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not conscience make you li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of fitness fondly dre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fitness he require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o feel your need of h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arise and go to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embrace me with his 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rms of my dea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re are ten thousand ch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0:54:44Z</dcterms:created>
  <dc:creator>Gary Wintergerst</dc:creator>
  <dc:description/>
  <dc:language>en-US</dc:language>
  <cp:lastModifiedBy>U</cp:lastModifiedBy>
  <cp:lastPrinted>1995-08-11T16:01:02Z</cp:lastPrinted>
  <dcterms:modified xsi:type="dcterms:W3CDTF">1997-07-24T14:27:32Z</dcterms:modified>
  <cp:revision>3</cp:revision>
  <dc:subject/>
  <dc:title>No Slide Title</dc:title>
</cp:coreProperties>
</file>