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Wa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e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&amp; ver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64 Abingdon P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e want to m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ather round thy thr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our heavenly Fri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prayers as they asc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into our hearts and minds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kneel in awe and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God to teach us he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us and cleanse our he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and guide our acts of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faith from seed to flower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lessing, Lord, we see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joy of thy vic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grace alone are we sav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y flock may we be f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mind of Christ abide in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minds we dedica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 and soul consecra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hy hol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make us whol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e sermon in this pl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s we go, lead us,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be thine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41:26Z</dcterms:created>
  <dc:creator>Gary Wintergerst</dc:creator>
  <dc:description/>
  <dc:language>en-US</dc:language>
  <cp:lastModifiedBy>Gary Wintergerst</cp:lastModifiedBy>
  <cp:lastPrinted>1995-12-28T04:12:58Z</cp:lastPrinted>
  <dcterms:modified xsi:type="dcterms:W3CDTF">1999-11-14T02:48:35Z</dcterms:modified>
  <cp:revision>6</cp:revision>
  <dc:subject/>
  <dc:title>No Slide Title</dc:title>
</cp:coreProperties>
</file>