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, Lord, do, Lord, do, Lord, remembe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, Lord, do, Lord, do, Lord, remembe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, Lord, do, Lord, do, Lord, remembe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ook Jesus as my Savior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ook Jesus as my Savior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ook Jesus as my Savior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in trouble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in trouble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in trouble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dying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dying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dying, do, Lord, remember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ot a home in gloryland that outshines the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ot a home in gloryland that outshines the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ot a home in gloryland that outshines the su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do, Lord, remembe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8:33:54Z</dcterms:created>
  <dc:creator>Gary Wintergerst</dc:creator>
  <dc:description/>
  <dc:language>en-US</dc:language>
  <cp:lastModifiedBy>U</cp:lastModifiedBy>
  <cp:lastPrinted>1995-08-07T15:04:32Z</cp:lastPrinted>
  <dcterms:modified xsi:type="dcterms:W3CDTF">1997-07-24T16:37:04Z</dcterms:modified>
  <cp:revision>3</cp:revision>
  <dc:subject/>
  <dc:title>No Slide Title</dc:title>
</cp:coreProperties>
</file>