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nt Forth b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Bless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6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64 World Library Publ., Inc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nt forth by God's bles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true faith confes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people of God from this dwelling take leav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ervice is end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now be extend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fruits of our worship in all who believ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eed of the teach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ceptive souls reach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ll blossom in action for God and for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grace did invite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ove shall unite 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work for God's kingdom and answer the c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praise and thanksgiv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God ever liv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tasks of our everyday life we will fac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faith ever shar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love ever car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mbracing God's children of each tribe and rac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your grace you feed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your light now lead u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ite us as one in this life that we shar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may all the liv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praise and thanksgiv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honor to Christ and that name which we be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6T08:53:52Z</dcterms:created>
  <dc:creator>Gary Wintergerst</dc:creator>
  <dc:description/>
  <dc:language>en-US</dc:language>
  <cp:lastModifiedBy>Gary Wintergerst</cp:lastModifiedBy>
  <cp:lastPrinted>1995-12-28T04:15:42Z</cp:lastPrinted>
  <dcterms:modified xsi:type="dcterms:W3CDTF">1999-11-14T02:49:51Z</dcterms:modified>
  <cp:revision>5</cp:revision>
  <dc:subject/>
  <dc:title>No Slide Title</dc:title>
</cp:coreProperties>
</file>