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of this world's delusive dre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renounced all sinful pl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ine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, like worldly pl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bits of life, though harmless they s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not my heart from him ever s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my all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, like pride or s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lf or friends shall not interve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t may cost me much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resolved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, like pride or s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lf or friends shall not interve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t may cost me much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resolved, there's nothing betwe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etween my soul and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his blessed face may be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preventing the least of his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e way clear! let nothing betw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17:48Z</dcterms:created>
  <dc:creator>Gary Wintergerst</dc:creator>
  <dc:description/>
  <dc:language>en-US</dc:language>
  <cp:lastModifiedBy>U</cp:lastModifiedBy>
  <cp:lastPrinted>1995-08-07T15:04:32Z</cp:lastPrinted>
  <dcterms:modified xsi:type="dcterms:W3CDTF">1997-07-24T14:31:48Z</dcterms:modified>
  <cp:revision>4</cp:revision>
  <dc:subject/>
  <dc:title>No Slide Title</dc:title>
</cp:coreProperties>
</file>