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Day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Nig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3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day of God, draw nig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beauty and in pow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with thy timeless judgment now to match our present hou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to our troubled mi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certain and afrai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quiet of a steadfast faith, calm of a call obey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justice to our l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all may dwell sec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inely build for days to come foundations that end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to our world of str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sovereign word of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ar may haunt the earth no more, and desolation cea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day of God, draw nig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at creation's bi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re be light again, and set thy judgments on the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2T13:35:48Z</dcterms:created>
  <dc:creator>Gary Wintergerst</dc:creator>
  <dc:description/>
  <dc:language>en-US</dc:language>
  <cp:lastModifiedBy>U</cp:lastModifiedBy>
  <cp:lastPrinted>1996-01-02T15:15:18Z</cp:lastPrinted>
  <dcterms:modified xsi:type="dcterms:W3CDTF">1997-07-24T17:53:02Z</dcterms:modified>
  <cp:revision>4</cp:revision>
  <dc:subject/>
  <dc:title>No Slide Title</dc:title>
</cp:coreProperties>
</file>