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ster, Let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ashington Gladd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ster, let me walk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wly paths of servic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y secret; help me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ain of toil, the fret of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the slow of heart to 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ome clear, winning word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he wayward feet to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ide them in the homeward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hy patience; still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loser, dearer compan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ork that keeps faith sweet and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rust that triumphs over wro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ope that sends a shining 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down the future's broadening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ace that only thou canst g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, O Master, let me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2:13:3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2-06-19T03:33:09Z</dcterms:modified>
  <cp:revision>4</cp:revision>
  <dc:subject/>
  <dc:title>No Slide Title</dc:title>
</cp:coreProperties>
</file>