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Be the D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iting L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6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be the dear uniting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ill not let us p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bodies may far off rem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till are one in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ed in one spirit to our H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appoints we 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ill in Jesus' footsteps t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o his work be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we ever walk i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thing know bes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desire, nothing este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Jesus crucifi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ll are one who him rece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ach with each ag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m the One, the Truth, we l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point of unit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takers of the Savior'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me in mind and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joy, nor grief, nor time, nor pl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life, nor death can p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5:34:50Z</dcterms:created>
  <dc:creator>Gary Wintergerst</dc:creator>
  <dc:description/>
  <dc:language>en-US</dc:language>
  <cp:lastModifiedBy>U</cp:lastModifiedBy>
  <cp:lastPrinted>1995-08-07T15:04:32Z</cp:lastPrinted>
  <dcterms:modified xsi:type="dcterms:W3CDTF">1997-07-24T16:45:42Z</dcterms:modified>
  <cp:revision>3</cp:revision>
  <dc:subject/>
  <dc:title>No Slide Title</dc:title>
</cp:coreProperties>
</file>