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il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 feel discour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k my work's in v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n the Holy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s my soul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ever feel discour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is your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you look for knowled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ne'er refuse to l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can't preach like Pe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can't pray like Pa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ell the love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 he die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wounded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balm in Gi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the sin-sick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1:57:06Z</dcterms:created>
  <dc:creator>Gary Wintergerst</dc:creator>
  <dc:description/>
  <dc:language>en-US</dc:language>
  <cp:lastModifiedBy>U</cp:lastModifiedBy>
  <cp:lastPrinted>1995-08-03T21:59:54Z</cp:lastPrinted>
  <dcterms:modified xsi:type="dcterms:W3CDTF">1997-07-24T14:32:02Z</dcterms:modified>
  <cp:revision>4</cp:revision>
  <dc:subject/>
  <dc:title>No Slide Title</dc:title>
</cp:coreProperties>
</file>