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of Resurrec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of resurrect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, tell it out abro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ssover of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ssover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to life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rth unto the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hrist hath brought us o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ymns of vict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be pure from ev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ay see a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n rays etern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resurrection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stening to his accen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hear, so calm and p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wn "All hail!" and, he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raise the victor str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the heavens be joyf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arth the song beg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round world keep triump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at is there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ings seen and unse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notes in gladness bl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the Lord hath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joy that hath no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1T15:09:04Z</dcterms:created>
  <dc:creator>Gary Wintergerst</dc:creator>
  <dc:description/>
  <dc:language>en-US</dc:language>
  <cp:lastModifiedBy>U</cp:lastModifiedBy>
  <cp:lastPrinted>1995-08-11T16:01:02Z</cp:lastPrinted>
  <dcterms:modified xsi:type="dcterms:W3CDTF">1997-07-24T14:22:14Z</dcterms:modified>
  <cp:revision>3</cp:revision>
  <dc:subject/>
  <dc:title>No Slide Title</dc:title>
</cp:coreProperties>
</file>