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Bor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Il Est Né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2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l est né, le divin Enfa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uez hautbois rèsonnez musette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l est né, le divin Enfa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tons tous son avènemen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born, the holy Ch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ay the oboe and bagpipes merril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born, the holy Ch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all of the Savior mi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u long ages of the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phets have foretold his com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u long ages of the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time has come at las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born, the holy Ch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ay the oboe and bagpipes merril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born, the holy Ch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all of the Savior mi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lovely, O how pu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this perfect child of hea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lovely, O how p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ous gift to humankin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born, the holy Ch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ay the oboe and bagpipes merril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born, the holy Ch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all of the Savior mi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Lord of all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as a child among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Lord of all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to us thy heavenly pe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born, the holy Ch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ay the oboe and bagpipes merril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born, the holy Ch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all of the Savior mi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7:11:16Z</dcterms:created>
  <dc:creator>Gary Wintergerst</dc:creator>
  <dc:description/>
  <dc:language>en-US</dc:language>
  <cp:lastModifiedBy>U</cp:lastModifiedBy>
  <cp:lastPrinted>1995-08-30T07:48:42Z</cp:lastPrinted>
  <dcterms:modified xsi:type="dcterms:W3CDTF">1997-07-24T04:51:30Z</dcterms:modified>
  <cp:revision>2</cp:revision>
  <dc:subject/>
  <dc:title>No Slide Title</dc:title>
</cp:coreProperties>
</file>