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Their Freed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t my people seek their freed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ilderness awhi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slave pens of the Delt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ghettos on the Nile"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God spoke from out of Sina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God spoke and it was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 people crossed the wat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ward the rising of the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t my people seek their freed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ilderness awhi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aging shrines and structu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loister and the aisle"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e Son of God has sp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storm clouds are unfur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's people must be scatte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servants in the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murmur on the mount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old Egyptian pl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miss our ancient bond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hope, the promise, wan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e rock shall yield its wa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manna fall b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 visions of a fut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we march toward the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aelstrom of the n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journeying into sp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lash of gener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ungering for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agony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alled to newer 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Lord of our tomorr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God of earth's tod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13:1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1:06:24Z</dcterms:modified>
  <cp:revision>4</cp:revision>
  <dc:subject/>
  <dc:title>No Slide Title</dc:title>
</cp:coreProperties>
</file>