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53 Augsburg/Fort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of the heavenly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in his bosom g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stling bird nor star in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refuge e'er was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is own doth tend and nou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holy courts they flou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evil things he spares the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mighty arms he bears t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ther life nor death shall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Lord his children s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them his grace he show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ir sorrows all he know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e giveth or he tak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is children ne'er forsak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he loving purpose sol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eserve them pure and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8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39:52Z</dcterms:modified>
  <cp:revision>4</cp:revision>
  <dc:subject/>
  <dc:title>No Slide Title</dc:title>
</cp:coreProperties>
</file>