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n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8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accept their prais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pt the prayers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all good delight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good and gracious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the King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avid's royal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the Lord's name com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and Blessed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mpany of ange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praising the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with all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orus make rep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ople of the Hebre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alms before thee w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yer and praise and anthe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e we prese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, laud,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Redeemer,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the lips of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sweet hosannas 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before thy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ang their hymns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now high exal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elody we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18:36Z</dcterms:created>
  <dc:creator>Gary Wintergerst</dc:creator>
  <dc:description/>
  <dc:language>en-US</dc:language>
  <cp:lastModifiedBy>U</cp:lastModifiedBy>
  <cp:lastPrinted>1995-08-10T22:15:38Z</cp:lastPrinted>
  <dcterms:modified xsi:type="dcterms:W3CDTF">1997-07-24T05:01:28Z</dcterms:modified>
  <cp:revision>6</cp:revision>
  <dc:subject/>
  <dc:title>No Slide Title</dc:title>
</cp:coreProperties>
</file>