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, I love thee, not because I hope for heaven there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yet because, if I love not, I must forever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O my Jesus, thou didst me upon the cross emb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e didst bear the nails and spear and manifold dis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hy, O blessed Jesus Christ, should I not love thee well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for the sake of winning heaven, nor of escaping h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with the hope of gaining aught, not seeking a re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as thyself hast loved me, O everlasting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ould I love thee, dearest Lord, and in thy praise will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thou art my loving God and my eternal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21:52:26Z</dcterms:created>
  <dc:creator>Gary Wintergerst</dc:creator>
  <dc:description/>
  <dc:language>en-US</dc:language>
  <cp:lastModifiedBy>U</cp:lastModifiedBy>
  <cp:lastPrinted>1995-08-07T15:04:32Z</cp:lastPrinted>
  <dcterms:modified xsi:type="dcterms:W3CDTF">1997-07-24T16:00:10Z</dcterms:modified>
  <cp:revision>3</cp:revision>
  <dc:subject/>
  <dc:title>No Slide Title</dc:title>
</cp:coreProperties>
</file>