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353200"/>
            <a:ext cx="730440" cy="10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 of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40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 may speak with bravest fi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ve the gift to all inspi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ve not love, my words are va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sounding brass, and hopeless 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 may give all I poss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iving so my love prof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ot be given by love withi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fit soon turns strangely th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pirit, come, our hearts contro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pirits long to be mad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nward love guide every de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we worship, and are fr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12:10Z</dcterms:created>
  <dc:creator>Gary Wintergerst</dc:creator>
  <dc:description/>
  <dc:language>en-US</dc:language>
  <cp:lastModifiedBy>Gary Wintergerst</cp:lastModifiedBy>
  <dcterms:modified xsi:type="dcterms:W3CDTF">1999-11-14T00:07:23Z</dcterms:modified>
  <cp:revision>3</cp:revision>
  <dc:subject/>
  <dc:title>No Slide Title</dc:title>
</cp:coreProperties>
</file>