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ttle T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Bethleh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ttle town of Bethle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till we see thee l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y deep and dreamless slee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lent stars go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n thy dark streets shine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verlasting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pes and fears of all the y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met in thee to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is born of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athered all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mortals sleep, the angels kee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watch of wondering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rning stars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 the holy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ises sing to God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ace to all on eart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ilently, how silent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ndrous gift i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God imparts to human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ssings of his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ear may hear his co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this world of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eek souls will receive him, st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r Christ enters 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Child of Bethle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cend to us, we p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st out our sin, and enter 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born in us to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the Christmas ange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glad tidings t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us, abide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ord Emmanu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21:43:44Z</dcterms:created>
  <dc:creator>Gary Wintergerst</dc:creator>
  <dc:description/>
  <dc:language>en-US</dc:language>
  <cp:lastModifiedBy>U</cp:lastModifiedBy>
  <cp:lastPrinted>1995-08-30T07:48:42Z</cp:lastPrinted>
  <dcterms:modified xsi:type="dcterms:W3CDTF">1997-07-24T04:53:38Z</dcterms:modified>
  <cp:revision>3</cp:revision>
  <dc:subject/>
  <dc:title>No Slide Title</dc:title>
</cp:coreProperties>
</file>