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That Dw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ow the Sk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0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that dwell below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Creator's praise ar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Redeemer's name be su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ery land by every tong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are thy mercies,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truth attends thy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raise shall sound from shore to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suns shall rise and set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fty themes, ye mortals,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ongs of praise divinely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salvation loud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ut for joy the Savior's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land begin the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 land the strains bel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eerful sounds all voice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ll the world with loudest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09:48:16Z</dcterms:created>
  <dc:creator>Gary Wintergerst</dc:creator>
  <dc:description/>
  <dc:language>en-US</dc:language>
  <cp:lastModifiedBy>U</cp:lastModifiedBy>
  <dcterms:modified xsi:type="dcterms:W3CDTF">1997-07-22T20:17:06Z</dcterms:modified>
  <cp:revision>3</cp:revision>
  <dc:subject/>
  <dc:title>No Slide Title</dc:title>
</cp:coreProperties>
</file>