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,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5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fix me, oh, fix me, oh, fix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, Jesus, fix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 for my long white ro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, Jesus, fix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 for my starry cr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, Jesus, fix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fix me, oh, fix me, oh, fix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, Jesus, fix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 for my journey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, Jesus, fix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 for my dying b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, Jesus, fix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fix me, oh, fix me, oh, fix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 me, Jesus, fix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20:4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06-17T21:59:30Z</dcterms:modified>
  <cp:revision>4</cp:revision>
  <dc:subject/>
  <dc:title>No Slide Title</dc:title>
</cp:coreProperties>
</file>