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hose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Humble Servi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8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1 Oxford Univ. Pr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hose love through humble servi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e the weight of human ne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upon the cross, forsak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fered mercy's perfect dee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, your servants, bring the worship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of voice alone, but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secrating to your purpo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gift that you imp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your children wander homele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the hungry cry for brea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the captives long for freedo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in grief we mourn our dea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, O Lord, your deep compass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ed the sick and freed the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e the love your Spirit kindl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to save and make us who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worship, grant us vis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your love's revealing l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its height and depth and great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wns upon our quickened s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ing known the needs and burde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compassion bids us b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rring us to tireless striv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abundant life to   sh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ed by worship to your serv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th in your dear name we g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child, the youth, the ag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in living deeds to sh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and health, good will and comfo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unsel, aid, and peace we gi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your servants, Lord, in freedo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your mercy know, and l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20:11:5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14T01:02:34Z</dcterms:modified>
  <cp:revision>4</cp:revision>
  <dc:subject/>
  <dc:title>No Slide Title</dc:title>
</cp:coreProperties>
</file>