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 Up, Y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ints of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7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 up, Ye saints of G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ve done with lesser thing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heart and mind and soul and streng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rve the King of king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 up, Ye saints of G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gdom tarries lo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in the day of brotherho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nd the night of wr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 up, Ye saints of G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hurch for you doth wa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 strength unequal to her task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 up, and make her grea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high the cross of Chris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ead where his feet have tr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brothers of the Son of M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 up, Ye saints of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5T16:39:38Z</dcterms:created>
  <dc:creator>Gary Wintergerst</dc:creator>
  <dc:description/>
  <dc:language>en-US</dc:language>
  <cp:lastModifiedBy>U</cp:lastModifiedBy>
  <cp:lastPrinted>1995-08-11T16:01:02Z</cp:lastPrinted>
  <dcterms:modified xsi:type="dcterms:W3CDTF">1997-07-24T16:51:54Z</dcterms:modified>
  <cp:revision>3</cp:revision>
  <dc:subject/>
  <dc:title>No Slide Title</dc:title>
</cp:coreProperties>
</file>