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, risen, conquer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the victory thou o'er death hast w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in bright raiment rolled the ston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pt the folded graveclothes where thy body 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, risen, conquer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the victory thou o'er death hast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Jesus meets thee, risen from the to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ly he greets thee, scatters fear and glo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church with gladness hymns of triumph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Lord now liveth; death hath lost its st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, risen, conquer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the victory thou o'er death hast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we doubt thee, glorious Prince of lif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naught without thee; aid us in our str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more than conquerors, through thy deathles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us safe through Jordan to thy home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the glory, risen, conquer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is the victory thou o'er death hast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21:53:30Z</dcterms:created>
  <dc:creator>Gary Wintergerst</dc:creator>
  <dc:description/>
  <dc:language>en-US</dc:language>
  <cp:lastModifiedBy>U</cp:lastModifiedBy>
  <cp:lastPrinted>1995-08-11T16:01:02Z</cp:lastPrinted>
  <dcterms:modified xsi:type="dcterms:W3CDTF">1997-07-24T14:23:02Z</dcterms:modified>
  <cp:revision>3</cp:revision>
  <dc:subject/>
  <dc:title>No Slide Title</dc:title>
</cp:coreProperties>
</file>