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Many Nam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0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6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sh, hush, hallelujah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ut, shout, hallelujah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, sing, hallelujah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God is love, God is lo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many names, gathered into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glory come and meet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ing, endlessly becom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hovering wing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b and birth of ti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fully we sing your prai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th of life in every peop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sh, hush, hallelujah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ut, shout, hallelujah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, sing, hallelujah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God is love, God is lo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Jewish faith, exodus and la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glory come and meet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of Miriam and Mos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Jesus Chri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bbi of the po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fully we sing your prai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ucified, alive forev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sh, hush, hallelujah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ut, shout, hallelujah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, sing, hallelujah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God is love, God is lo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wounded hands, web and loom of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glory come and meet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rpenter of new creat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many nam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ed into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fully we sing your prai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ing, endlessly becom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1:01:3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08T02:17:54Z</dcterms:modified>
  <cp:revision>4</cp:revision>
  <dc:subject/>
  <dc:title>No Slide Title</dc:title>
</cp:coreProperties>
</file>