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acob's Lad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Jacob's lad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Jacob's lad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Jacob's lad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round goes higher, hig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round goes higher, hig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round goes higher, hig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, do you love my Jesu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, do you love my Jesu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, do you love my Jesu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ove him, why not serve him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ove him, why not serve him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ove him, why not serve him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higher, hig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higher, hig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climbing higher, hig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45:36Z</dcterms:created>
  <dc:creator>Gary Wintergerst</dc:creator>
  <dc:description/>
  <dc:language>en-US</dc:language>
  <cp:lastModifiedBy>U</cp:lastModifiedBy>
  <cp:lastPrinted>1995-08-07T15:04:32Z</cp:lastPrinted>
  <dcterms:modified xsi:type="dcterms:W3CDTF">1997-07-24T15:49:40Z</dcterms:modified>
  <cp:revision>3</cp:revision>
  <dc:subject/>
  <dc:title>No Slide Title</dc:title>
</cp:coreProperties>
</file>