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Prom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1 Ronald S. Cole-Turn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blessing, child of prom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ed with the Spirit's sig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is water God has sealed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love and grace   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love, our love's expre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's creation, loved inde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sh from God, refresh our spiri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joy and laughter l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joy, our dearest tr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you are, from God you c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ck to God we humbly give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as one who bears Christ's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God your loving Par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rn to know whose child you 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ow to laugh and sing and worshi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and love God more than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7:46:1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2:17:10Z</dcterms:modified>
  <cp:revision>4</cp:revision>
  <dc:subject/>
  <dc:title>No Slide Title</dc:title>
</cp:coreProperties>
</file>