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Tis Finishe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Messiah Die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82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Tis finished! the Messiah di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ut off for sins, but not his ow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ccomplished is the sacrifi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great redeeming work is do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veil is rent; in Christ alon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iving way to heaven is see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middle wall is broken dow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all the world may enter i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Tis finished! All my guilt and p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ant no sacrifice besid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me, for me the Lamb is slain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tis finished! I am justifi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reign of sin and death is o'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all may live from sin set fr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tan hath lost his mortal power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tis swallowed up in victor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07T16:54:14Z</dcterms:created>
  <dc:creator>Gary Wintergerst</dc:creator>
  <dc:description/>
  <dc:language>en-US</dc:language>
  <cp:lastModifiedBy>U</cp:lastModifiedBy>
  <cp:lastPrinted>1995-08-30T07:48:42Z</cp:lastPrinted>
  <dcterms:modified xsi:type="dcterms:W3CDTF">1997-07-24T05:01:44Z</dcterms:modified>
  <cp:revision>2</cp:revision>
  <dc:subject/>
  <dc:title>No Slide Title</dc:title>
</cp:coreProperties>
</file>