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 o'er the tumu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life's wild, restless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by day his sweet voice sound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ing, "Christian, follow m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f old the apostles heard 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Galilean la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ed from home and toil and kind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ing all for Jesus' s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 from the worshi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vain world's golden st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ch idol that would keep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ying, "Christian, love me mor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joys and in our sorr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toil and hours of 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e calls, in cares and pleasu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hristian, love me more than thes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! By thy merc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may we hear thy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our hearts to thine obedi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and love thee best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7T15:00:26Z</dcterms:created>
  <dc:creator>Gary Wintergerst</dc:creator>
  <dc:description/>
  <dc:language>en-US</dc:language>
  <cp:lastModifiedBy>U</cp:lastModifiedBy>
  <cp:lastPrinted>1995-08-07T14:55:28Z</cp:lastPrinted>
  <dcterms:modified xsi:type="dcterms:W3CDTF">1997-07-24T14:34:48Z</dcterms:modified>
  <cp:revision>4</cp:revision>
  <dc:subject/>
  <dc:title>No Slide Title</dc:title>
</cp:coreProperties>
</file>