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Y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 in Hear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60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who reigns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whom we ad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ther, Son, and Holy Gh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God for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rej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give thanks and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ye pure in he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give thanks, and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glorious banner wave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ross of Christ your K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rej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give thanks and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clear hosannas ra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eluias lou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st answering echoes upward floa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wreaths of incense clou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rej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give thanks and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on through life's long p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chanting as y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youth to age, by night and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ladness and in wo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rej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give thanks and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last the march shall 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earied ones shall r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ilgrims find their heavenly h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rusalem the bl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rej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give thanks and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3T19:31:46Z</dcterms:created>
  <dc:creator>Gary Wintergerst</dc:creator>
  <dc:description/>
  <dc:language>en-US</dc:language>
  <cp:lastModifiedBy>U</cp:lastModifiedBy>
  <cp:lastPrinted>1995-07-10T21:17:46Z</cp:lastPrinted>
  <dcterms:modified xsi:type="dcterms:W3CDTF">1997-07-24T01:12:54Z</dcterms:modified>
  <cp:revision>3</cp:revision>
  <dc:subject/>
  <dc:title>No Slide Title</dc:title>
</cp:coreProperties>
</file>