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353200"/>
            <a:ext cx="730440" cy="104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orship the K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7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orship the King, all gloriou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ratefully sing God's power and God's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hield and Defender, the Ancient of D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vilioned in splendor, and girded with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ell of God's might, O sing of God'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robe is the light, whose canopy sp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chariots of wrath the deep thunderclouds for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ark is God's path on the wings of the stor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arth with its store of wonders unt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mighty, thy power hath founded of o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th stablished it fast by a changeless dec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ound it hath cast, like a mantle, the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bountiful care, what tongue can recit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breathes in the air, it shines in the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streams from the hills, it descends to the pl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weetly distills in the dew and the r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ail children of dust, and feeble as fr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e do we trust, nor find thee to fai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mercies how tender, how firm to the 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Maker, Defender, Redeemer, and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4T19:48:58Z</dcterms:created>
  <dc:creator>Gary Wintergerst</dc:creator>
  <dc:description/>
  <dc:language>en-US</dc:language>
  <cp:lastModifiedBy>U</cp:lastModifiedBy>
  <dcterms:modified xsi:type="dcterms:W3CDTF">1997-07-22T18:23:20Z</dcterms:modified>
  <cp:revision>3</cp:revision>
  <dc:subject/>
  <dc:title>No Slide Title</dc:title>
</cp:coreProperties>
</file>