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and Thanksgiv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to Go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04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82 H. Francis Yardle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and thanksgiving be to God our mak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urce of all blessing, prodigal creato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aptized and made your ow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we come before you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le we adore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t our own holiness nor that we have strive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ings us the peace which you, O Christ, have give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aptized and set apar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rengthen us, O Savi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grace and favo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Holy Spirit, come in visitatio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re the truth, our hope, and our salvatio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aptize with joy and pow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, O Dove descend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e never end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o the Father, Son, and Holy Spiri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Lord, one faith, one source of every meri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e now renew your churc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 this water give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nt peace from heave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24T20:32:32Z</dcterms:created>
  <dc:creator>Gary Wintergerst</dc:creator>
  <dc:description/>
  <dc:language>en-US</dc:language>
  <cp:lastModifiedBy>Gary Wintergerst</cp:lastModifiedBy>
  <cp:lastPrinted>1995-12-25T20:14:02Z</cp:lastPrinted>
  <dcterms:modified xsi:type="dcterms:W3CDTF">1999-11-14T02:13:18Z</dcterms:modified>
  <cp:revision>5</cp:revision>
  <dc:subject/>
  <dc:title>No Slide Title</dc:title>
</cp:coreProperties>
</file>