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ck Thyself,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l, with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ck thyself, my soul, with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the gloomy haunts of sadn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into the daylight's splend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with joy thy praises r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Christ, whose grace unbou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this wondrous banquet found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o'er all the heavens he reign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to dwell with thee he deign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, who all my life dost bright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, who dost my soul enlight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, the best that any know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t, whence all my being flow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y feet I cry, my Mak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be a fit partak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is blessed food from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od, thy glory, 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read of life, I pray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gladly here obey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to my hurt invi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y love with love requit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is banquet let me m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ow vast and deep its trea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gifts thou here dost giv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y guest in heaven receive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19:54Z</dcterms:created>
  <dc:creator>Gary Wintergerst</dc:creator>
  <dc:description/>
  <dc:language>en-US</dc:language>
  <cp:lastModifiedBy>U</cp:lastModifiedBy>
  <cp:lastPrinted>1995-08-11T16:01:02Z</cp:lastPrinted>
  <dcterms:modified xsi:type="dcterms:W3CDTF">1997-07-24T17:21:14Z</dcterms:modified>
  <cp:revision>3</cp:revision>
  <dc:subject/>
  <dc:title>No Slide Title</dc:title>
</cp:coreProperties>
</file>