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Loves Excell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divine, all loves exce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of heaven, to earth come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in us thy humble dwel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y faithful mercies crow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ou art all com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, unbounded love thou 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sit us with thy salv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ter every trembling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, O breathe thy loving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every troubled breas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all in thee inher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find that second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away our bent to sin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pha and Omega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d of faith, as its beg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our hearts at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lmighty to del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all thy life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ddenly return and n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more thy temples le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we would be always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thee as thy host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and praise thee without cea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y perfect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ish, then, thy new cre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 and spotless let us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ee thy great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ly restored in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d from glory into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n heaven we take our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cast our crowns bef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t in wonder, love, and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1:04:36Z</dcterms:created>
  <dc:creator>Gary Wintergerst</dc:creator>
  <dc:description/>
  <dc:language>en-US</dc:language>
  <cp:lastModifiedBy>U</cp:lastModifiedBy>
  <cp:lastPrinted>1995-08-06T21:00:28Z</cp:lastPrinted>
  <dcterms:modified xsi:type="dcterms:W3CDTF">1997-07-24T14:33:18Z</dcterms:modified>
  <cp:revision>3</cp:revision>
  <dc:subject/>
  <dc:title>No Slide Title</dc:title>
</cp:coreProperties>
</file>