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Is the Feas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Victor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38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78 Lutheran Book of Worshi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is the feast of victory for our Go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lleluia! 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Lamb who was slai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s begun his reign. 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is the feast of victory for our Go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lleluia!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is the feast of victory for our Go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lleluia! 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rthy is Christ, the Lamb who was sl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se blood set us free to be people of Go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is the feast of victory for our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lleluia!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is the feast of victory for our Go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lleluia! 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ower, riches, wisdom, and strengt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onor, blessing, and glory are hi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is the feast of victory for our Go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lleluia!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is the feast of victory for our Go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lleluia! 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with all the people of G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join in the hymn of all creatio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is the feast of victory for our Go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lleluia!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is the feast of victory for our Go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lleluia! 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ing, honor, glory, and migh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to God and the Lamb forever. Ame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is the feast of victory for our Go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lleluia!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5T19:47:22Z</dcterms:created>
  <dc:creator>Gary Wintergerst</dc:creator>
  <dc:description/>
  <dc:language>en-US</dc:language>
  <cp:lastModifiedBy>Gary Wintergerst</cp:lastModifiedBy>
  <cp:lastPrinted>1995-12-25T20:44:06Z</cp:lastPrinted>
  <dcterms:modified xsi:type="dcterms:W3CDTF">1999-11-14T02:35:27Z</dcterms:modified>
  <cp:revision>5</cp:revision>
  <dc:subject/>
  <dc:title>No Slide Title</dc:title>
</cp:coreProperties>
</file>