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ead of the Worl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624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ead of the world in mercy broke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ne of the soul in mercy sh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y whom the words of life were spoke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in whose death our sins are dead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ok on the heart by sorrow broke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ok on the tears by sinners she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be thy feast to us the toke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by thy grace our souls are fe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24T22:15:02Z</dcterms:created>
  <dc:creator>Gary Wintergerst</dc:creator>
  <dc:description/>
  <dc:language>en-US</dc:language>
  <cp:lastModifiedBy>U</cp:lastModifiedBy>
  <cp:lastPrinted>1995-12-25T20:31:46Z</cp:lastPrinted>
  <dcterms:modified xsi:type="dcterms:W3CDTF">1997-07-24T17:25:08Z</dcterms:modified>
  <cp:revision>4</cp:revision>
  <dc:subject/>
  <dc:title>No Slide Title</dc:title>
</cp:coreProperties>
</file>