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Thing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Are Sp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things of thee are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, city of our God;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word cannot be br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ed thee for his own abo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ock of Ages f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shake thy sure repos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alvation's walls surrou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ayst smile at all thy fo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the streams of living wa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ing from eternal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supply thy sons and daugh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fear of want rem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an faint while such a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will their thirst assuag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which like the Lord, the g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ails from age to ag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und each habitation hov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cloud and fire app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glory and a cov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ing that the Lord is n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deriving from our bann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by night and shade b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fe we feed upon the mann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God gives us when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inhabitants of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ed in our Redeemer's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hom our souls rely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s us monarchs, priests to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, by his great love, he ra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rs over self to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priests his solemn pra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r thankful offering b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8:06Z</dcterms:created>
  <dc:creator>Gary Wintergerst</dc:creator>
  <dc:description/>
  <dc:language>en-US</dc:language>
  <cp:lastModifiedBy>U</cp:lastModifiedBy>
  <cp:lastPrinted>1996-01-02T15:15:40Z</cp:lastPrinted>
  <dcterms:modified xsi:type="dcterms:W3CDTF">1997-07-24T17:53:08Z</dcterms:modified>
  <cp:revision>4</cp:revision>
  <dc:subject/>
  <dc:title>No Slide Title</dc:title>
</cp:coreProperties>
</file>