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 That Bi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be the tie that b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in Christia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llowship of kindred m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ike to that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our Father'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our our ardent praye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ears, our hopes, our aims ar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forts and our ca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each other's w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utual burdens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ten for each other fl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ympathizing t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sunder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gives us inwar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shall still be joined in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pe to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43:20Z</dcterms:created>
  <dc:creator>Gary Wintergerst</dc:creator>
  <dc:description/>
  <dc:language>en-US</dc:language>
  <cp:lastModifiedBy>U</cp:lastModifiedBy>
  <cp:lastPrinted>1995-08-11T16:01:02Z</cp:lastPrinted>
  <dcterms:modified xsi:type="dcterms:W3CDTF">1997-07-24T16:42:06Z</dcterms:modified>
  <cp:revision>3</cp:revision>
  <dc:subject/>
  <dc:title>No Slide Title</dc:title>
</cp:coreProperties>
</file>