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Gho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earts Inspi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0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Ghost, our hearts inspi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thine influence pr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urce of the old prophetic fi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untain of life and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Ghost (for moved by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rophets wrote and spoke)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lock the truth, thyself the ke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seal the sacred boo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xpand thy wings, celestial D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od o'er our nature's n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our disordered spirits m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there now be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, through the Spirit we shall k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thou within us s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ound, with all thy saints be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epths of love div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07:43:48Z</dcterms:created>
  <dc:creator>Gary Wintergerst</dc:creator>
  <dc:description/>
  <dc:language>en-US</dc:language>
  <cp:lastModifiedBy>U</cp:lastModifiedBy>
  <cp:lastPrinted>1995-08-11T16:01:02Z</cp:lastPrinted>
  <dcterms:modified xsi:type="dcterms:W3CDTF">1997-07-24T17:18:52Z</dcterms:modified>
  <cp:revision>4</cp:revision>
  <dc:subject/>
  <dc:title>No Slide Title</dc:title>
</cp:coreProperties>
</file>