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ath Spok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Prophe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08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1 The Hymn Society of Am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ath spoken by the prophe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oken the unchanging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from age to age proclaim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One, the righteous Lord!'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 the world's despair and turmo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firm anchor holdeth f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eternal reigns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first, and God the l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ath spoken by Christ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everlasting S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ness of the Father's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Father ever 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oken by the Word incarna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God, ere time, was bo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Light, to earth desc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as God in human for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yet speaketh by th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eth to our hearts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age-long Word expoun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own message, now as th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the rise and fall of nati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ure faith yet standing f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abides, the Word uncha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first, and God the l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15:40:38Z</dcterms:created>
  <dc:creator>Gary Wintergerst</dc:creator>
  <dc:description/>
  <dc:language>en-US</dc:language>
  <cp:lastModifiedBy>Gary Wintergerst</cp:lastModifiedBy>
  <cp:lastPrinted>1995-07-01T15:49:38Z</cp:lastPrinted>
  <dcterms:modified xsi:type="dcterms:W3CDTF">1999-11-08T02:21:07Z</dcterms:modified>
  <cp:revision>5</cp:revision>
  <dc:subject/>
  <dc:title>No Slide Title</dc:title>
</cp:coreProperties>
</file>