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Like 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ntle Spiri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1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like a gentle spirit deep with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reins our fervent passions day b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s us strength to challenge and to w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pite the perils of our chosen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God be God wherever life may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very tongue bear witness to the c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humankind is one by God's dec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God be God, let God be God fo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like a mother eagle hovers n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mighty wings of power manif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like a gentle shepherd stills our f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mforts us against a peaceful bre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n our vain pretensions we conspi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hape God's image as we see our 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 to the voice above our base desi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the sculptor, we the broken st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our fretful claims of sex and 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universal love of God shines throu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God is love transcending style and pl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the idle options we pursu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5:48:2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08T02:28:26Z</dcterms:modified>
  <cp:revision>4</cp:revision>
  <dc:subject/>
  <dc:title>No Slide Title</dc:title>
</cp:coreProperties>
</file>