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hurch'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Foundatio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4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now on earth have unio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God the Three in O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hare through faith communio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ose whose rest is w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happy ones, and hol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give us grace that w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them, the meek and lowl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high may dwell with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hurch's one foundatio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Jesus Christ our Lor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his new creatio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water and the Wor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heaven he came and sought 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we might ever b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living servant peopl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his own death set fr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lled forth from every nat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t one o'er all the earth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charter of salvation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Lord, one faith, one bir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holy name profess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t one table f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one hope always press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Christ's own Spirit l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with a scornful wond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orld sees us oppress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schisms rent asund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heresies distress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t saints their watch are keeping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ir cry goes up, "How long?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soon the night of weep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l be the morn of s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d toil and tribulat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umult of our wa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ait the consummatio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peace forevermo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with the vision glorio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longing eyes are bles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great church victorio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l be the church at re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7T21:53:00Z</dcterms:created>
  <dc:creator>Gary Wintergerst</dc:creator>
  <dc:description/>
  <dc:language>en-US</dc:language>
  <cp:lastModifiedBy>U</cp:lastModifiedBy>
  <cp:lastPrinted>1995-08-07T15:04:32Z</cp:lastPrinted>
  <dcterms:modified xsi:type="dcterms:W3CDTF">1997-07-24T16:40:26Z</dcterms:modified>
  <cp:revision>3</cp:revision>
  <dc:subject/>
  <dc:title>No Slide Title</dc:title>
</cp:coreProperties>
</file>