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y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at thy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athered all to hear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hearts and souls be stir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o seek and love and fear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teachings sweet and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n from earth to love thee sol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knowledge, sense, and s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 in deepest darkness shrou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y spirit breaks our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eams of truth uncloud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lone to God canst win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must work all good within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Lord, thyself imp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light, from God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ou our ears and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by thy spirit's plead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the cry thy people rais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, and bless our prayers and prais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37:36Z</dcterms:created>
  <dc:creator>Gary Wintergerst</dc:creator>
  <dc:description/>
  <dc:language>en-US</dc:language>
  <cp:lastModifiedBy>U</cp:lastModifiedBy>
  <cp:lastPrinted>1995-08-07T15:04:32Z</cp:lastPrinted>
  <dcterms:modified xsi:type="dcterms:W3CDTF">1997-07-24T17:00:38Z</dcterms:modified>
  <cp:revision>3</cp:revision>
  <dc:subject/>
  <dc:title>No Slide Title</dc:title>
</cp:coreProperties>
</file>