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ster People,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Voic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ster people, raise your voi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nds of heaven in earth should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brought us heaven's choic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ly music, let it 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ster people, let us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of death can no more stop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our pressing here bel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Lord empowered us t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 over every fo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o victory now we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day to us is Eas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its resurrection s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n trouble move the fast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our God who rights the wr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power of heavenly thro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1T15:13:2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2T22:30:39Z</dcterms:modified>
  <cp:revision>3</cp:revision>
  <dc:subject/>
  <dc:title>No Slide Title</dc:title>
</cp:coreProperties>
</file>