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N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ymn Society of Ame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race an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 your whole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almighty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ate and fear div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tter threats are hur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e and mercy gu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l our strife-torn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earch for wealth and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orn of truth and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rust in bombs that sh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truction through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pride of race and st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indness to your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iver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God,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trengthen all who lab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find rel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fear of rattling sa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read of war's incr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ope and courage fal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your voice be hea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aith that none can al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ervants undergi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bright in us the vi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days when war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tred and divi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ay to love and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dawns the morning gl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ruth and justice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 shall rule victorio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e world's dom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48:02Z</dcterms:created>
  <dc:creator>Gary Wintergerst</dc:creator>
  <dc:description/>
  <dc:language>en-US</dc:language>
  <cp:lastModifiedBy>Gary Wintergerst</cp:lastModifiedBy>
  <cp:lastPrinted>1995-08-11T15:45:00Z</cp:lastPrinted>
  <dcterms:modified xsi:type="dcterms:W3CDTF">1999-11-14T00:15:57Z</dcterms:modified>
  <cp:revision>4</cp:revision>
  <dc:subject/>
  <dc:title>No Slide Title</dc:title>
</cp:coreProperties>
</file>