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the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'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with yonder sacred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t his feet may fal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join the everlasting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join the everlasting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the power of Jesus'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s prostrate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royal diad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royal diad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chosen seed of Israel's 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ransomed from th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him who saves you by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him who saves you by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s, whose love can ne'er forg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mwood and the g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spread your trophies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spread your trophies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kindred, every tri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errestrial b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all majesty ascri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all majesty ascri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ye martyrs of y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his altar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ol the Stem of Jesse's 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ol the Stem of Jesse's 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19:52:24Z</dcterms:created>
  <dc:creator>Gary Wintergerst</dc:creator>
  <dc:description/>
  <dc:language>en-US</dc:language>
  <cp:lastModifiedBy>U</cp:lastModifiedBy>
  <cp:lastPrinted>1995-07-10T19:50:30Z</cp:lastPrinted>
  <dcterms:modified xsi:type="dcterms:W3CDTF">1997-07-24T00:37:16Z</dcterms:modified>
  <cp:revision>5</cp:revision>
  <dc:subject/>
  <dc:title>No Slide Title</dc:title>
</cp:coreProperties>
</file>