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hall They H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d of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4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2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hall they hear the word of God unless the truth is tol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hall the sinful be set free, the sorrowful console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ll who speak the truth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mpart your Spirit, Lord, we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hall they call to God for help unless they have believe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hall the poor be given hope, the prisoner reprieve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ose who help the blind to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light and love and clar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hall the gospel be proclaimed that sinners may repent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hall the world find peace at last if heralds are not sent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send us, Lord, for we rejoi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peak of Christ with life and v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5T20:06:08Z</dcterms:created>
  <dc:creator>Gary Wintergerst</dc:creator>
  <dc:description/>
  <dc:language>en-US</dc:language>
  <cp:lastModifiedBy>Gary Wintergerst</cp:lastModifiedBy>
  <cp:lastPrinted>1995-12-25T21:13:24Z</cp:lastPrinted>
  <dcterms:modified xsi:type="dcterms:W3CDTF">1999-11-14T02:41:36Z</dcterms:modified>
  <cp:revision>5</cp:revision>
  <dc:subject/>
  <dc:title>No Slide Title</dc:title>
</cp:coreProperties>
</file>