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1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 Carmines, 197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4 Al Carm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iver, on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, on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in man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ing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iver, for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chang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ime and sp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fear the future, give to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changing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still the grace to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on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ve known in many w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ifference i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iversity we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iver, on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, on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in man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ing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iver, for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colo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s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made us differ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 many ki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old ways dis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love cast out our f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on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ve known in many w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ifference i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iversity we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Giver, on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pirit, one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n in man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ing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iver, for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ness of the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ness of each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still crea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less love and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we see, as shadows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 from one great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gifts, on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ve known in many w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ifference i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iversity we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7:39:40Z</dcterms:created>
  <dc:creator>Gary Wintergerst</dc:creator>
  <dc:description/>
  <dc:language>en-US</dc:language>
  <cp:lastModifiedBy>Gary Wintergerst</cp:lastModifiedBy>
  <cp:lastPrinted>1995-07-01T17:48:20Z</cp:lastPrinted>
  <dcterms:modified xsi:type="dcterms:W3CDTF">2003-06-14T15:01:40Z</dcterms:modified>
  <cp:revision>6</cp:revision>
  <dc:subject/>
  <dc:title>No Slide Title</dc:title>
</cp:coreProperties>
</file>