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.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claim the faith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wonders that were d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love of God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sin the victory w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made the Virgin M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his only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were the chosen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whom the Lord did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was the land of prom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shioned for his earthly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ore blessed far the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ho bore him in her wo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let all faithful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honor of her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hurch, in her foreshad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 in her thanksgiving cla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rist's mother sang in gl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's people sing the sa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Magnify, my soul, God's great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Savior I rej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ages call me bl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aise I lift my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cast down all the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wly are his choic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48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36:24Z</dcterms:modified>
  <cp:revision>3</cp:revision>
  <dc:subject/>
  <dc:title>No Slide Title</dc:title>
</cp:coreProperties>
</file>