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y Cup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59 Sacred Son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y cup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ift it up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quench this thirsting of my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d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d me till I want no 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y cup, fill it u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m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0:46:3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2:36:57Z</dcterms:modified>
  <cp:revision>4</cp:revision>
  <dc:subject/>
  <dc:title>No Slide Title</dc:title>
</cp:coreProperties>
</file>