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279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Blest Are Th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ust in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65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936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93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36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blest are they who trust in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nd those we love must p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ield them up, for go they mus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o not lose them from our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ripened age, their harvest reap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gone from us in youth or pri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 they have eternal lif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leased from all the bonds of t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, who tasted death for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ise above our natural grief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ness to a stricken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ength and splendor of belief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18:36Z</dcterms:created>
  <dc:creator>Gary Wintergerst</dc:creator>
  <dc:description/>
  <dc:language>en-US</dc:language>
  <cp:lastModifiedBy>Gary Wintergerst</cp:lastModifiedBy>
  <cp:lastPrinted>1995-08-10T22:15:38Z</cp:lastPrinted>
  <dcterms:modified xsi:type="dcterms:W3CDTF">1999-11-14T02:43:37Z</dcterms:modified>
  <cp:revision>9</cp:revision>
  <dc:subject/>
  <dc:title>No Slide Title</dc:title>
</cp:coreProperties>
</file>