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Word of G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carnat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9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Word of God incarnat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Wisdom from on h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ruth unchanged, unchang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ight of our dark sky: we praise you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radiance tha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hallowed pag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lantern to our footstep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es on from age to ag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hurch from you, our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eived the gift div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till that light is lift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'er all the earth to shi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the sacred vesse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gems of truth are stor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the heaven-drawn pictu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Christ, the living W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cripture is a bann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fore God's host unfurl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a shining beac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ove the darkling worl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the chart and compa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o'er life's surging t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d mists and rocks and quicksa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you, O Christ, will gui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ke your church, dear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lamp of purest go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ar before the natio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true light as of ol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each your wandering pilgrim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is their path to t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, clouds and darkness end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see you face to f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6T19:41:14Z</dcterms:created>
  <dc:creator>Gary Wintergerst</dc:creator>
  <dc:description/>
  <dc:language>en-US</dc:language>
  <cp:lastModifiedBy>U</cp:lastModifiedBy>
  <cp:lastPrinted>1995-08-07T15:04:32Z</cp:lastPrinted>
  <dcterms:modified xsi:type="dcterms:W3CDTF">1997-07-24T17:00:48Z</dcterms:modified>
  <cp:revision>3</cp:revision>
  <dc:subject/>
  <dc:title>No Slide Title</dc:title>
</cp:coreProperties>
</file>