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re ye able," said the M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o be crucified with me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ea," the sturdy dreamers answe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o the death we follow the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 to remem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 thief lifts up his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is pardoned soul is wor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 place in paradis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 when the shad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around you with the s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lieve that spirit triumph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mend your soul to Go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ye able? Still the Mas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spers down eter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roic spirits ans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s then in Galil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able. Our spirits are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old them, make us, like thee,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uiding radiance above us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od, to love, and loyal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48:04Z</dcterms:created>
  <dc:creator>Gary Wintergerst</dc:creator>
  <dc:description/>
  <dc:language>en-US</dc:language>
  <cp:lastModifiedBy>U</cp:lastModifiedBy>
  <cp:lastPrinted>1995-08-11T16:01:02Z</cp:lastPrinted>
  <dcterms:modified xsi:type="dcterms:W3CDTF">1997-07-24T16:37:44Z</dcterms:modified>
  <cp:revision>3</cp:revision>
  <dc:subject/>
  <dc:title>No Slide Title</dc:title>
</cp:coreProperties>
</file>