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ptiv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a captiv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I shall be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ce me to render up my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shall conqueror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k in life's alar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y myself I st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prison me within thine ar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ong shall be my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weak and po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it master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has no spring of action 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varies with the w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nnot freely 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hast wrought its ch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slave it with thy matchles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athless it shall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ower is faint and 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have learned to ser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lacks the needed fire to g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lacks the breeze to ner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nnot drive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itself be dr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flag can only be unfur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u shalt breathe from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will is not my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hast made it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t would reach a monarch's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ust its crown res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only stands unb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the clashing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n thy bosom it has le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und in thee its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58:24Z</dcterms:created>
  <dc:creator>Gary Wintergerst</dc:creator>
  <dc:description/>
  <dc:language>en-US</dc:language>
  <cp:lastModifiedBy>U</cp:lastModifiedBy>
  <cp:lastPrinted>1995-08-07T15:04:32Z</cp:lastPrinted>
  <dcterms:modified xsi:type="dcterms:W3CDTF">1997-07-24T15:51:48Z</dcterms:modified>
  <cp:revision>3</cp:revision>
  <dc:subject/>
  <dc:title>No Slide Title</dc:title>
</cp:coreProperties>
</file>