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riendly Beas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brother, strong and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humbly born in a stable ru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friendly beasts around him st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brother, strong and g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," said the donkey, shaggy and br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carried his mother uphill and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rried his mother to Bethlehem t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" said the donkey, shaggy and b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," said the cow, all white and 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gave him my manger for his b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ave him hay to pillow his h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" said the cow, all white and 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," said the sheep with curly h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gave him my wool for his blanket war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ore my coat on Christmas mo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" said the sheep with curly h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," said the dove, from the rafters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cooed him to sleep that he should not c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oed him to sleep, my mate and I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" said the dove, from the rafters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all the beasts, by some good sp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table dark were glad to t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gifts they gave Emmanu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ifts they gave Emmanu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7:19:34Z</dcterms:created>
  <dc:creator>Gary Wintergerst</dc:creator>
  <dc:description/>
  <dc:language>en-US</dc:language>
  <cp:lastModifiedBy>U</cp:lastModifiedBy>
  <cp:lastPrinted>1995-08-30T07:48:42Z</cp:lastPrinted>
  <dcterms:modified xsi:type="dcterms:W3CDTF">1997-07-24T04:51:22Z</dcterms:modified>
  <cp:revision>2</cp:revision>
  <dc:subject/>
  <dc:title>No Slide Title</dc:title>
</cp:coreProperties>
</file>