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In Th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me, O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in thy name, O Lord, I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daily labor to purs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, only thee, resolved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I think or speak or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thy wisdom hath assig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cheerfully fulf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my works thy presence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ove thy good and perfect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may I set at my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eyes mine inmost substance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bor on at thy comm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fer all my works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e delightfully empl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'er thy bounteous grace hath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n my course with even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sely walk with thee to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59:12Z</dcterms:created>
  <dc:creator>Gary Wintergerst</dc:creator>
  <dc:description/>
  <dc:language>en-US</dc:language>
  <cp:lastModifiedBy>U</cp:lastModifiedBy>
  <cp:lastPrinted>1995-08-11T16:01:02Z</cp:lastPrinted>
  <dcterms:modified xsi:type="dcterms:W3CDTF">1997-07-24T15:54:18Z</dcterms:modified>
  <cp:revision>4</cp:revision>
  <dc:subject/>
  <dc:title>No Slide Title</dc:title>
</cp:coreProperties>
</file>