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lasting Arm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33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fellowshi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joy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everlasting arm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blesse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peace is m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everlasting arm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, lea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fe and secure from all alarm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, lean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everlasting arm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sweet to wal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is pilgrim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everlasting arm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bright the p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ows from day to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everlasting arm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, lea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fe and secure from all alarm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, lean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everlasting arm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have I to d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have I to f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everlasting arms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blessed pe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my Lord so n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everlasting arm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, lea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fe and secure from all alarm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, lean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everlasting arm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3T21:49:36Z</dcterms:created>
  <dc:creator>Gary Wintergerst</dc:creator>
  <dc:description/>
  <dc:language>en-US</dc:language>
  <cp:lastModifiedBy>U</cp:lastModifiedBy>
  <cp:lastPrinted>1995-07-03T21:39:54Z</cp:lastPrinted>
  <dcterms:modified xsi:type="dcterms:W3CDTF">1997-07-24T00:33:06Z</dcterms:modified>
  <cp:revision>3</cp:revision>
  <dc:subject/>
  <dc:title>No Slide Title</dc:title>
</cp:coreProperties>
</file>