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fant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fant Lowl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2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fant holy, infant low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is bed a cattle st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xen lowing, little know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babe is Lord of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ift are winging angels sing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els ringing, tidings bringing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babe is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cks were sleeping, shepherds keep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gil till the morning ne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w the glory, heard the st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dings of a gospel tru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 rejoicing, free from sorr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s voicing, greet the morrow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babe was born fo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17:22:12Z</dcterms:created>
  <dc:creator>Gary Wintergerst</dc:creator>
  <dc:description/>
  <dc:language>en-US</dc:language>
  <cp:lastModifiedBy>U</cp:lastModifiedBy>
  <cp:lastPrinted>1995-08-30T07:48:42Z</cp:lastPrinted>
  <dcterms:modified xsi:type="dcterms:W3CDTF">1997-07-24T04:51:39Z</dcterms:modified>
  <cp:revision>2</cp:revision>
  <dc:subject/>
  <dc:title>No Slide Title</dc:title>
</cp:coreProperties>
</file>