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, Who Stretched the Spangled Heaven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5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67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, who stretched the spangled heave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finite in time and pl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lung the suns in burning radian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the silent fields of sp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your children, in your like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re inventive powers with you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Creator, still creat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w us what we yet may d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udly rise our modern citi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tely buildings, row on r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their windows, blank, unfee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re on canyoned streets be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the lonely drift unnotic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city's ebb and f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st to purpose and to mea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carcely caring where they g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ave ventured worlds undreamed of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the childhood of our r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nown the ecstasy of wing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untraveled realms of sp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bed the secrets of the ato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ielding unimagined pow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cing us with life's destruc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our most triumphant hou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each far horizon becko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it challenge us ane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ren of creative purpo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rving others, honoring you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our dreams prove rich with prom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ch endeavor well begu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Creator, give us guidan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our goals and yours are 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9T18:55:34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08T02:46:35Z</dcterms:modified>
  <cp:revision>4</cp:revision>
  <dc:subject/>
  <dc:title>No Slide Title</dc:title>
</cp:coreProperties>
</file>