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Mak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've Bre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Isaac Watts, 1719; alt. By John Wesley, 1737; alt. 1989 (Ps. 146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Maker while I've br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voice is lost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employ my nobler powe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 of praise shall ne'er b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, and thought, and being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mmortality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are they whose hopes 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Israel's God, who made the sk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and seas, with all their t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ruth forever stands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ves th'oppressed and feeds the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ne shall find God's promise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pours eyesight on the bl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supports the fainting m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nds the laboring conscienc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lps the stranger in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dow and the father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s the prisoner sweet re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praise my God who lends me br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my voice is lost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shall employ my nobler pow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ys of praise shall ne'er b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, and thought, and being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mmortality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9:01:48Z</dcterms:created>
  <dc:creator>Gary Wintergerst</dc:creator>
  <dc:description/>
  <dc:language>en-US</dc:language>
  <cp:lastModifiedBy>Gary Wintergerst</cp:lastModifiedBy>
  <cp:lastPrinted>1995-07-02T14:48:50Z</cp:lastPrinted>
  <dcterms:modified xsi:type="dcterms:W3CDTF">2001-06-22T23:09:19Z</dcterms:modified>
  <cp:revision>5</cp:revision>
  <dc:subject/>
  <dc:title>No Slide Title</dc:title>
</cp:coreProperties>
</file>