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to Jord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came to Jord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baptized by Joh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id not come for pard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e sinless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share repent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who mourn their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 the vital sent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ich good news beg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share temp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utmost woe and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and our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e upon the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the dove desce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m, the Son of 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dden years had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ge of grace beg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ai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e vows we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very day inva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bondage brea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our lives dir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we covet m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the resurre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eads to Pentec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7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06:26Z</dcterms:modified>
  <cp:revision>3</cp:revision>
  <dc:subject/>
  <dc:title>No Slide Title</dc:title>
</cp:coreProperties>
</file>