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 of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and Sk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5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 of the earth and sk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all truth and power bel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your truth to make us wis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your power to make us str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not known you: to the sk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monuments of folly so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our self-wrought miseri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made us trust ourselves the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not loved you: far and w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reckage of our hatred spread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ils wrought by human pr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il on unrepentant hea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ong to end this world-wide strif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we follow in your w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to us all your words of l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our darkness turn to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12:13:42Z</dcterms:created>
  <dc:creator>Gary Wintergerst</dc:creator>
  <dc:description/>
  <dc:language>en-US</dc:language>
  <cp:lastModifiedBy>U</cp:lastModifiedBy>
  <cp:lastPrinted>1996-01-03T12:43:44Z</cp:lastPrinted>
  <dcterms:modified xsi:type="dcterms:W3CDTF">1997-07-24T15:56:46Z</dcterms:modified>
  <cp:revision>4</cp:revision>
  <dc:subject/>
  <dc:title>No Slide Title</dc:title>
</cp:coreProperties>
</file>