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th Div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Truth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wn upon this soul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 and inwar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 my spirit, clear my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 within this heart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 every high des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self in thy pure f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Power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and nerve this will of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I may strongly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avely bear, and nobly str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Righ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within my conscience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Lord, and I sha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ly bound, forever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30:34Z</dcterms:created>
  <dc:creator>Gary Wintergerst</dc:creator>
  <dc:description/>
  <dc:language>en-US</dc:language>
  <cp:lastModifiedBy>U</cp:lastModifiedBy>
  <cp:lastPrinted>1995-08-07T15:04:32Z</cp:lastPrinted>
  <dcterms:modified xsi:type="dcterms:W3CDTF">1997-07-24T15:58:48Z</dcterms:modified>
  <cp:revision>4</cp:revision>
  <dc:subject/>
  <dc:title>No Slide Title</dc:title>
</cp:coreProperties>
</file>