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y So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ver of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to thy bosom f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nearer waters ro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tempest still is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e me, O my Savior,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storm of life is p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into the haven gu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receive my soul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 refuge have I n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gs my helpless soul o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, ah! leave me not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support and comfort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trust on thee is st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help from thee I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ver my defenseless h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hadow of thy 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O Christ, art all I w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than all in thee I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fallen, cheer the fai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the sick, and lead the bl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nd holy is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all unrighteous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se and full of sin I 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full of truth and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nteous grace with thee is f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o cover all my s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healing stream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and keep me pure with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of life the fountain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 let me take of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 thou up with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to all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30:44Z</dcterms:created>
  <dc:creator>Gary Wintergerst</dc:creator>
  <dc:description/>
  <dc:language>en-US</dc:language>
  <cp:lastModifiedBy>U</cp:lastModifiedBy>
  <cp:lastPrinted>1995-08-07T15:04:32Z</cp:lastPrinted>
  <dcterms:modified xsi:type="dcterms:W3CDTF">1997-07-24T16:02:40Z</dcterms:modified>
  <cp:revision>3</cp:revision>
  <dc:subject/>
  <dc:title>No Slide Title</dc:title>
</cp:coreProperties>
</file>