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Zion, Hast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7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Zion, haste, thy mission high fulfil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ell to all the world that God is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he who made all nations is not will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soul should perish, lost in shades of nigh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blish glad tidings, tidings of pe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dings of Jesus, redemption and relea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hold how many thousands still are ly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und in the darksome prisonhouse of s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none to tell them of the Savior's dy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of the life he died for them to w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blish glad tidings, tidings of pe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dings of Jesus, redemption and relea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claim to every people, tongue, and n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God, in whom they live and move, is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how he stooped to save his lost cre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ied on earth that we might live ab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blish glad tidings, tidings of pe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dings of Jesus, redemption and relea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of thine own to bear the message glorio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of thy wealth to speed them on their 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ur out thy soul for them in prayer victorio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Zion, haste to bring the brighter 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blish glad tidings, tidings of pe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dings of Jesus, redemption and relea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6T15:37:44Z</dcterms:created>
  <dc:creator>Gary Wintergerst</dc:creator>
  <dc:description/>
  <dc:language>en-US</dc:language>
  <cp:lastModifiedBy>U</cp:lastModifiedBy>
  <cp:lastPrinted>1995-08-07T15:04:32Z</cp:lastPrinted>
  <dcterms:modified xsi:type="dcterms:W3CDTF">1997-07-24T16:50:24Z</dcterms:modified>
  <cp:revision>3</cp:revision>
  <dc:subject/>
  <dc:title>No Slide Title</dc:title>
</cp:coreProperties>
</file>