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ather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Begott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Father's love begott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the worlds began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Alpha and Omeg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he source, the ending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are, that have be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future years shall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e heights of heaven, adore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hosts, his praise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s, dominions, bow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tol our God and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 tongue on earth be sil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voice in concert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o thee with God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O Holy Ghost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ymn and chant and high thanks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nwearied praises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, glory an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ternal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and evermore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1:26Z</dcterms:created>
  <dc:creator>Gary Wintergerst</dc:creator>
  <dc:description/>
  <dc:language>en-US</dc:language>
  <cp:lastModifiedBy>U</cp:lastModifiedBy>
  <cp:lastPrinted>1995-08-11T16:01:02Z</cp:lastPrinted>
  <dcterms:modified xsi:type="dcterms:W3CDTF">1997-07-24T01:26:08Z</dcterms:modified>
  <cp:revision>3</cp:revision>
  <dc:subject/>
  <dc:title>No Slide Title</dc:title>
</cp:coreProperties>
</file>