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Lov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6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loves the chu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ace beyond all measu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ar his name, for all the world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not let us go or let us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ooses earthen vessels for his trea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ars the chu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rrupted or confor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bsessed with trifles, blessing greed and w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ove outwits us, spinning gold from str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saints and prophets, praying and reform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eeds the chu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lls us with a vi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praise and preaching, wine and broken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sharing people, doing what they've s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n the world's respect, or opposi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needs the chu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ive and tell his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ise his love and marvel at his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, bathed in light, awakened from the d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lk with God, alive in grace and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25:0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1:07:51Z</dcterms:modified>
  <cp:revision>4</cp:revision>
  <dc:subject/>
  <dc:title>No Slide Title</dc:title>
</cp:coreProperties>
</file>