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 feel the sacred fl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joy of full salva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 to his name!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him I freely 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ver love and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presence daily l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y at his feet I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ly pleasures all forsak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e, Jesus, take me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, Savior, wholly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feel the 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ly know that thou art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Jesus I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give myself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 with thy love and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blessing fall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, I surrend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o thee, my blessed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urrend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4T21:04:50Z</dcterms:created>
  <dc:creator>Gary Wintergerst</dc:creator>
  <dc:description/>
  <dc:language>en-US</dc:language>
  <cp:lastModifiedBy>U</cp:lastModifiedBy>
  <cp:lastPrinted>1995-08-07T15:04:32Z</cp:lastPrinted>
  <dcterms:modified xsi:type="dcterms:W3CDTF">1997-07-24T14:29:26Z</dcterms:modified>
  <cp:revision>3</cp:revision>
  <dc:subject/>
  <dc:title>No Slide Title</dc:title>
</cp:coreProperties>
</file>