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s Th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O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used the Lord of bli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the dreadful c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, for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the dreadful c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O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ndrous love is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used the Lord of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ay aside his cr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, for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ay aside his cr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, I wil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nd to the La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the great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illions join the the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, I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illions join the the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, I'll s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from death I'm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and joyfu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, I'll s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27:1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3:24Z</dcterms:modified>
  <cp:revision>2</cp:revision>
  <dc:subject/>
  <dc:title>No Slide Title</dc:title>
</cp:coreProperties>
</file>