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40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51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y faithfulness, O God my Fat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no shadow of turning with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changest not, thy compassions, they fail no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ou hast been, thou forever wilt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y faithfulnes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y faithfulnes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ing by morning new mercies I s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 have needed thy hand hath provid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y faithful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unto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mmer and winter and springtime and har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, moon, and stars in their courses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with all nature in manifold wit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y great faithfulness, mercy, and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y faithfulnes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y faithfulnes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ing by morning new mercies I s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 have needed thy hand hath provid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y faithful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unto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don for sin and a peace that endure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own dear presence to cheer and to gu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for today and bright hope for tomor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ings all mine, with ten thousand besid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y faithfulnes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y faithfulnes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ing by morning new mercies I s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 have needed thy hand hath provid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is thy faithful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unto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5T21:29:48Z</dcterms:created>
  <dc:creator>Gary Wintergerst</dc:creator>
  <dc:description/>
  <dc:language>en-US</dc:language>
  <cp:lastModifiedBy>Gary Wintergerst</cp:lastModifiedBy>
  <cp:lastPrinted>1995-07-05T21:38:58Z</cp:lastPrinted>
  <dcterms:modified xsi:type="dcterms:W3CDTF">1999-11-08T02:38:41Z</dcterms:modified>
  <cp:revision>5</cp:revision>
  <dc:subject/>
  <dc:title>No Slide Title</dc:title>
</cp:coreProperties>
</file>