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he on earth hath un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 the Three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stic sweet commun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whose rest is w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ones and ho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give us grace that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m, the meek and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igh may dwell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's one found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Jesus Christ he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is his new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 and the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 he came and sought 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is holy br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own blood he bought 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her life he d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ect from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one o'er all the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charter of salv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, one faith, one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name she bles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akes one holy f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one hope she pres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grace endu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ith a scornful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her sore op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chisms rent asu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eresies dist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aints their watch are keep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y goes up, "How long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the night of w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morn of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oil and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umult of her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aits the consumm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eace for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with the vision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longing eyes are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reat church victorio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the church at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4:03:34Z</dcterms:created>
  <dc:creator>Gary Wintergerst</dc:creator>
  <dc:description/>
  <dc:language>en-US</dc:language>
  <cp:lastModifiedBy>U</cp:lastModifiedBy>
  <cp:lastPrinted>1995-08-11T16:01:02Z</cp:lastPrinted>
  <dcterms:modified xsi:type="dcterms:W3CDTF">1997-07-24T16:40:18Z</dcterms:modified>
  <cp:revision>3</cp:revision>
  <dc:subject/>
  <dc:title>No Slide Title</dc:title>
</cp:coreProperties>
</file>