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Spirit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ry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omas E. Herbran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Spirit's entry n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ter and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Jesus on your b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al both felt and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water be the sacred 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ust die each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ise again by his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ollowers of his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ing Spirit, hear our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r baptismal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hes us through all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cleanse again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3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15:07Z</dcterms:modified>
  <cp:revision>4</cp:revision>
  <dc:subject/>
  <dc:title>No Slide Title</dc:title>
</cp:coreProperties>
</file>