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Utry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Send me, Lor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Lead me, Lor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Fill me, Lord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Jes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39:3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31:48Z</dcterms:modified>
  <cp:revision>4</cp:revision>
  <dc:subject/>
  <dc:title>No Slide Title</dc:title>
</cp:coreProperties>
</file>