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 Created Heaven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Earth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151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Trans. </a:t>
            </a:r>
            <a:r>
              <a:rPr b="1" lang="en-US" sz="3200" spc="-1" strike="noStrike">
                <a:solidFill>
                  <a:srgbClr val="00279f"/>
                </a:solidFill>
                <a:latin typeface="Symbol"/>
                <a:ea typeface="Symbol"/>
              </a:rPr>
              <a:t>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 1983 Boris &amp; Clare Anders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 created heaven and earth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things perfect brought to birth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's great power made dark and ligh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arth revolving day and night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9000"/>
          </a:bodyPr>
          <a:p>
            <a:pPr marL="90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us praise God's mercy great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0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our needs that love await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0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 who fashions all that live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0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each one a blessing give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 is one, will ever b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dols are mere vanity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andmade gods of wood and clay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annot help us when we pra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ut God's grace beyond compar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aves us all from death's despair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o earth's creatures small and great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ive thanks for that blessed stat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8-29T19:02:16Z</dcterms:created>
  <dc:creator>Gary Wintergerst</dc:creator>
  <dc:description/>
  <dc:language>en-US</dc:language>
  <cp:lastModifiedBy>Gary Wintergerst</cp:lastModifiedBy>
  <cp:lastPrinted>1995-08-11T16:01:02Z</cp:lastPrinted>
  <dcterms:modified xsi:type="dcterms:W3CDTF">1999-11-08T04:09:33Z</dcterms:modified>
  <cp:revision>4</cp:revision>
  <dc:subject/>
  <dc:title>No Slide Title</dc:title>
</cp:coreProperties>
</file>