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nder St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that from yon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s the world of light alon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in yonder st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whose feet the shepherds fall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at midnight who is 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s in dark Gethseman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in Calvary's thro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s for blessings on his foe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he that from the gr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to heal and help and sav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O wondrous s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Lord, the King of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we humbl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 Lord of a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31:10Z</dcterms:created>
  <dc:creator>Gary Wintergerst</dc:creator>
  <dc:description/>
  <dc:language>en-US</dc:language>
  <cp:lastModifiedBy>U</cp:lastModifiedBy>
  <cp:lastPrinted>1995-08-11T16:01:02Z</cp:lastPrinted>
  <dcterms:modified xsi:type="dcterms:W3CDTF">1997-07-24T01:27:22Z</dcterms:modified>
  <cp:revision>3</cp:revision>
  <dc:subject/>
  <dc:title>No Slide Title</dc:title>
</cp:coreProperties>
</file>