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Word Is a Lamp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4 Meadowgreen Music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word is a lamp unto my f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 light unto my pa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feel afr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k I've lost m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you're there right besid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thing will I f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long as you are n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be near me to the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word is a lamp unto my f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 light unto my pa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 will not forg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 for me and y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forever is wande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be my gui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ld me to your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will love you to the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word is a lamp unto my f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 light unto my p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0:28:14Z</dcterms:created>
  <dc:creator>Gary Wintergerst</dc:creator>
  <dc:description/>
  <dc:language>en-US</dc:language>
  <cp:lastModifiedBy>Gary Wintergerst</cp:lastModifiedBy>
  <cp:lastPrinted>1995-12-25T20:12:14Z</cp:lastPrinted>
  <dcterms:modified xsi:type="dcterms:W3CDTF">1999-11-14T02:12:13Z</dcterms:modified>
  <cp:revision>5</cp:revision>
  <dc:subject/>
  <dc:title>No Slide Title</dc:title>
</cp:coreProperties>
</file>