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 I a Soldi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Cro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1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 I a soldier of the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follower of the Lamb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all I fear to own his cau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blush to speak his na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ust I be carried to the ski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flowery beds of 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others fought to win the priz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ailed through bloody seas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there no foes for me to fac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ust I not stem the floo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this vile world a friend to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elp me on to Go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e I must fight, if I would reig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crease my courage,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bear the toil, endure the p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pported by thy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saints in all this glorious w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conquer, though they di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ee the triumph from af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faith they bring it n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at illustrious day shall r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thy armies shi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robes of victory through the sk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lory shall be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18:27:14Z</dcterms:created>
  <dc:creator>Gary Wintergerst</dc:creator>
  <dc:description/>
  <dc:language>en-US</dc:language>
  <cp:lastModifiedBy>U</cp:lastModifiedBy>
  <cp:lastPrinted>1995-08-07T15:04:32Z</cp:lastPrinted>
  <dcterms:modified xsi:type="dcterms:W3CDTF">1997-07-24T16:34:32Z</dcterms:modified>
  <cp:revision>3</cp:revision>
  <dc:subject/>
  <dc:title>No Slide Title</dc:title>
</cp:coreProperties>
</file>