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alds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alds of Christ, who bear the King's comm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 tidings in your mortal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on and carry swift the news you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straight, make straight the highway of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esert ways, dark fen, and deep mora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jungles, sluggish seas, and mountain pa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now the road, and falter not, nor st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across the earth the King's high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faith and strength the road to bu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e promise of the day ful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ar shall be no more, and strife shall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highway of the Prince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14:42Z</dcterms:created>
  <dc:creator>Gary Wintergerst</dc:creator>
  <dc:description/>
  <dc:language>en-US</dc:language>
  <cp:lastModifiedBy>U</cp:lastModifiedBy>
  <cp:lastPrinted>1995-08-11T16:01:02Z</cp:lastPrinted>
  <dcterms:modified xsi:type="dcterms:W3CDTF">1997-07-24T16:46:34Z</dcterms:modified>
  <cp:revision>3</cp:revision>
  <dc:subject/>
  <dc:title>No Slide Title</dc:title>
</cp:coreProperties>
</file>