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ople, Look Ea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0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ople, look east. The time is n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crowning of the ye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your house fair as you are a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im the hearth and set the tabl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ople, look east and sing to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, the Guest, is on the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rrows, be glad. Though earth is b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more seed is planted t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p your strength the seed to nouris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n course the flower may flouris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ople, look east and sing to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, the Rose, is on the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s, keep the watch. When night is d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more light the bowl shall br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ing beyond the frosty we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ght as sun and moon togeth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ople, look east and sing to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, the Star, is on the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announce with shouts of mir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m who brings new life to ear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t every peak and valley humm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word, the Lord is com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ople, look east and sing to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, the Lord, is on the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8T08:23:54Z</dcterms:created>
  <dc:creator>Gary Wintergerst</dc:creator>
  <dc:description/>
  <dc:language>en-US</dc:language>
  <cp:lastModifiedBy>U</cp:lastModifiedBy>
  <cp:lastPrinted>1995-08-30T07:48:42Z</cp:lastPrinted>
  <dcterms:modified xsi:type="dcterms:W3CDTF">1997-07-24T04:47:00Z</dcterms:modified>
  <cp:revision>2</cp:revision>
  <dc:subject/>
  <dc:title>No Slide Title</dc:title>
</cp:coreProperties>
</file>