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thou Christ of great com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our fearful hearts by conflict ren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, thy people, from consuming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y our own false hopes and aims are spen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God's gift from highest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to hungry souls the bread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let thy spirit unto us be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l earth's wounds and end all bitter str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afoot on dusty high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ing to wandering souls the path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thou beside us lest the tempting by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re us away from thee to endless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who by thy cross didst sav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 and dark despair, from sin and gui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nder back the love thy mercy gav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ou our lives, and use them as thou wil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world, O Christ o'er death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y this sign didst conquer grief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be faithful to thy gospel glorio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our Lord! Thou dost forever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23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23:00Z</dcterms:modified>
  <cp:revision>4</cp:revision>
  <dc:subject/>
  <dc:title>No Slide Title</dc:title>
</cp:coreProperties>
</file>