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ought the Lord, and afterward I k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moved my soul to seek him, seeking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not I that found, O Savior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, I was found of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reach forth thy hand and mine enf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lked and sank not on the storm-vexe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not so much that I on thee took h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, dear Lord,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ind, I walk, I love, but oh, the who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ove is but my answer, Lord,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wert long beforehand with my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thou loveds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5T21:24:10Z</dcterms:created>
  <dc:creator>Gary Wintergerst</dc:creator>
  <dc:description/>
  <dc:language>en-US</dc:language>
  <cp:lastModifiedBy>U</cp:lastModifiedBy>
  <cp:lastPrinted>1995-10-25T21:21:22Z</cp:lastPrinted>
  <dcterms:modified xsi:type="dcterms:W3CDTF">1997-07-24T14:27:36Z</dcterms:modified>
  <cp:revision>2</cp:revision>
  <dc:subject/>
  <dc:title>No Slide Title</dc:title>
</cp:coreProperties>
</file>