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from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lms of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from the realms of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ng your flight o'er all the ea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ho sang creation's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proclaim Messiah's bir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wor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wor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Christ, the newborn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s, in the field abi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ing o'er your flocks b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th us is now resid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nder shines the infant l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ges, leave your contempl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er visions beam af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the great Desire of nati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have seen his natal sta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, before the altar b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ing long in hope and f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ddenly the Lord,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temple shall appea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22:06Z</dcterms:created>
  <dc:creator>Gary Wintergerst</dc:creator>
  <dc:description/>
  <dc:language>en-US</dc:language>
  <cp:lastModifiedBy>U</cp:lastModifiedBy>
  <cp:lastPrinted>1995-08-30T07:48:42Z</cp:lastPrinted>
  <dcterms:modified xsi:type="dcterms:W3CDTF">1997-07-24T04:50:36Z</dcterms:modified>
  <cp:revision>2</cp:revision>
  <dc:subject/>
  <dc:title>No Slide Title</dc:title>
</cp:coreProperties>
</file>