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Man and Woma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ere Ma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4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3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man and woman we were mad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love be found and life beg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praise the Lord who made us tw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raise the Lord when two are on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love that comes to l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child or parent, husband, w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Jesus lived and gave his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our life and loving ne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celebrate with him to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rink the joy he offers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makes the simple moment shi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anges water into w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Jesus died to live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praise the love that, come what m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bring the dawn and clear the sk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aits to wipe all tears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us hope for what shal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lieving where we cannot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pread the table, clear the h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elebrate till day is d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peace go deep between us 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joy be shared by every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ugh and make merry with your frie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raaise the love that never end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5T19:51:04Z</dcterms:created>
  <dc:creator>Gary Wintergerst</dc:creator>
  <dc:description/>
  <dc:language>en-US</dc:language>
  <cp:lastModifiedBy>Gary Wintergerst</cp:lastModifiedBy>
  <cp:lastPrinted>1995-12-25T20:45:04Z</cp:lastPrinted>
  <dcterms:modified xsi:type="dcterms:W3CDTF">1999-11-14T02:37:58Z</dcterms:modified>
  <cp:revision>5</cp:revision>
  <dc:subject/>
  <dc:title>No Slide Title</dc:title>
</cp:coreProperties>
</file>