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, 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 For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, stand up for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soldiers of the cro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his royal bann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must not suffer lo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victory unto vic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army shall he l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every foe is vanquish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 is Lord in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, stand up for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umpet call obe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h to the mighty conflic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his glorious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that are brave now serve h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ainst unnumbered fo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courage rise with da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rength to strength oppo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, stand up for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in his strength al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rm of flesh will fail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dare not trust your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t on the gospel ar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piece put on with pray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duty calls or da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never wanting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, stand up for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rife will not be l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day the noise of batt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xt the victor's s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ose who vanquish evi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rown of life shall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with the King of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reign eternal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37:16Z</dcterms:created>
  <dc:creator>Gary Wintergerst</dc:creator>
  <dc:description/>
  <dc:language>en-US</dc:language>
  <cp:lastModifiedBy>U</cp:lastModifiedBy>
  <cp:lastPrinted>1995-08-11T16:01:02Z</cp:lastPrinted>
  <dcterms:modified xsi:type="dcterms:W3CDTF">1997-07-24T16:35:00Z</dcterms:modified>
  <cp:revision>3</cp:revision>
  <dc:subject/>
  <dc:title>No Slide Title</dc:title>
</cp:coreProperties>
</file>