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Called Us 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Russell Schulz-Widm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God, has called us 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love finds its source in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erfect love that casts out f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ve that Christ makes ever 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racious God, you consecra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is lovely, good, and tru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ose who in your presence wa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 day their love re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of love, inspire our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eal your will in all we 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every husband, every w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utual love and love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5T20:03:56Z</dcterms:created>
  <dc:creator>Gary Wintergerst</dc:creator>
  <dc:description/>
  <dc:language>en-US</dc:language>
  <cp:lastModifiedBy>Gary Wintergerst</cp:lastModifiedBy>
  <cp:lastPrinted>1995-12-25T21:12:26Z</cp:lastPrinted>
  <dcterms:modified xsi:type="dcterms:W3CDTF">1999-11-14T02:40:02Z</dcterms:modified>
  <cp:revision>5</cp:revision>
  <dc:subject/>
  <dc:title>No Slide Title</dc:title>
</cp:coreProperties>
</file>