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Fount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with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n a nobler, sweeter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thy power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is poor lisping, stammering tong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is poor lisping, stammering tong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s silent in the gr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fountain filled with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n from Emmanuel's ve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ners plunged beneath that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ners plunged beneath that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all their guilty stai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ying thief rejoiced to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ountain in his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may I, though vile 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may I, though vile as h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all my sins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dying Lamb, thy preciou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never lose its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ransomed church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, to sin no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, to sin no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, to sin no 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ransomed church of Go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d, to sin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r since, by faith, I saw the st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lowing wounds supp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love has been my the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love has been my the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till I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09:02Z</dcterms:created>
  <dc:creator>Gary Wintergerst</dc:creator>
  <dc:description/>
  <dc:language>en-US</dc:language>
  <cp:lastModifiedBy>U</cp:lastModifiedBy>
  <cp:lastPrinted>1995-12-25T20:31:04Z</cp:lastPrinted>
  <dcterms:modified xsi:type="dcterms:W3CDTF">1997-07-24T17:24:56Z</dcterms:modified>
  <cp:revision>6</cp:revision>
  <dc:subject/>
  <dc:title>No Slide Title</dc:title>
</cp:coreProperties>
</file>