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hat Their Joy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Glory Must B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2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hat their joy and their glory must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endless sabbaths the blessed ones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for the valiant, to weary ones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shall be all, and in all ever bl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ly, "Jerusalem" name we that sh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ity of peace that brings joy everm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sh and fulfillment are not severed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do things prayed for come short of the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, where no troubles distraction can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he sweet anthems of Zion shall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for thy grace, Lord, their voices of p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blessed people eternally 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, in the meanwhile, with hearts raised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or that country must yearn and must sig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ing Jerusalem, dear native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our long exile on Babylon's str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w before him with our praises we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whom, and in whom, and through whom are 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whom, the Father; and in whom, th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whom, the Spirit, with them ever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2T13:27:58Z</dcterms:created>
  <dc:creator>Gary Wintergerst</dc:creator>
  <dc:description/>
  <dc:language>en-US</dc:language>
  <cp:lastModifiedBy>U</cp:lastModifiedBy>
  <cp:lastPrinted>1996-01-02T15:11:38Z</cp:lastPrinted>
  <dcterms:modified xsi:type="dcterms:W3CDTF">1997-07-24T17:52:45Z</dcterms:modified>
  <cp:revision>4</cp:revision>
  <dc:subject/>
  <dc:title>No Slide Title</dc:title>
</cp:coreProperties>
</file>