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Fou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Every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Fount of every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ne my heart to sing thy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ams of mercy, never cea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for songs of loudest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some melodious sonn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g by flaming tongues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mount! I'm fixed upon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 of thy redeeming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 raise mine Ebenez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ther by thy help I'm c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hope, by thy good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ly to arrive at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ought me when a str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ndering from the fold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, to rescue me from d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erposed his preciou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o grace how great a debt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I'm constrained to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y goodness, like a fe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my wandering heart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ne to wander, Lord, I feel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ne to leave the God I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's my heart, O take and seal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l it for thy courts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08:34:44Z</dcterms:created>
  <dc:creator>Gary Wintergerst</dc:creator>
  <dc:description/>
  <dc:language>en-US</dc:language>
  <cp:lastModifiedBy>U</cp:lastModifiedBy>
  <cp:lastPrinted>1995-08-07T15:04:32Z</cp:lastPrinted>
  <dcterms:modified xsi:type="dcterms:W3CDTF">1997-07-24T15:47:28Z</dcterms:modified>
  <cp:revision>3</cp:revision>
  <dc:subject/>
  <dc:title>No Slide Title</dc:title>
</cp:coreProperties>
</file>