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y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the potter;               I am the c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ld me and make me   after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 am waiting,     yielded and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rch me and try me, Savior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me just now, Lord, wash me just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y presence     humbly I b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nded and weary,      help me I pr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, all power,         surely is th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me and heal me, Savior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thine own way, Lord! Have thine own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o'er my being  absolute s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with thy Spirit               till all shall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nly, always,      living in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0:48:56Z</dcterms:created>
  <dc:creator>Gary Wintergerst</dc:creator>
  <dc:description/>
  <dc:language>en-US</dc:language>
  <cp:lastModifiedBy>U</cp:lastModifiedBy>
  <cp:lastPrinted>1995-08-06T20:46:04Z</cp:lastPrinted>
  <dcterms:modified xsi:type="dcterms:W3CDTF">1997-07-24T14:33:06Z</dcterms:modified>
  <cp:revision>3</cp:revision>
  <dc:subject/>
  <dc:title>No Slide Title</dc:title>
</cp:coreProperties>
</file>