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 upon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night Cl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 upon the midnight cl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lorious song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ngels bending near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their harps of go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Peace on the earth, good will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eaven's all-gracious King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n solemn stillness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e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rough the cloven skies they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eaceful wings unfur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their heavenly music floa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all the weary wor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its sad and lowly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end on hovering 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 o'er its Babel sou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, beneath life's crushing l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forms are bending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il along the climbing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ainful steps and s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 now! for glad and golden h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swiftly on the w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est beside the weary 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angels s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! the days are hastening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prophet seen of 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ith the ever-circling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he time foret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ace shall over all the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ancient splendors f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hole world send back the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now the angels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8:34Z</dcterms:created>
  <dc:creator>Gary Wintergerst</dc:creator>
  <dc:description/>
  <dc:language>en-US</dc:language>
  <cp:lastModifiedBy>U</cp:lastModifiedBy>
  <cp:lastPrinted>1995-08-30T07:48:42Z</cp:lastPrinted>
  <dcterms:modified xsi:type="dcterms:W3CDTF">1997-07-24T04:50:10Z</dcterms:modified>
  <cp:revision>2</cp:revision>
  <dc:subject/>
  <dc:title>No Slide Title</dc:title>
</cp:coreProperties>
</file>