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W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me a L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1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5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we name a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akens heart and m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dwelling all we know or think or do or seek or fin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our daily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very human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's echoes sound and God is found, hid in the common pl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we awoke to l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ilt on a rock of c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asked no great reward but firm, assured, was simply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an, with parents' nam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cribe, and thus ad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unconfined, a father kind, a mother strong and s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people share a tas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rength and skills unit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rojects old or new, to make or do with shared de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riend and Partner's wi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better underst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all should share, create, and care, and know that life is g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in a hundred nam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day we all can me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resence, sensed and shown at work, at home, or in the stree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every name we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s in a brighter su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 alone is Love full grown and life and hope begu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5:42:0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08T02:23:12Z</dcterms:modified>
  <cp:revision>4</cp:revision>
  <dc:subject/>
  <dc:title>No Slide Title</dc:title>
</cp:coreProperties>
</file>