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irst One Ev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7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3 Linda Wilberger Ega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irst one ever, oh, ever to kn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birth of Jesus was the Maid Ma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 Mary the Maid of Galil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lessed is she, is she who believe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blessed is she who believes in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blessed is she who believe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was Mary the Maid of Galil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lessed is she, is she who believ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irst one ever, oh, ever to kn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Messiah, Jesus, when he said, "I am he,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 the Samaritan woman who drew from the we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lessed is she, is she who perceive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blessed is she who perceives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blessed is she who perceiv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was the Samaritan woman who drew from the we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lessed is she, is she who perceiv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irst one ever, oh, ever to kn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rising of Jesus, his glory to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re Mary, Joanna, and Magdale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lessed are they, are they who s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blessed are they who see the Lord, o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are they, are they who s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were Mary, Joanna, and Magdale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lessed are they, are they who s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4:57:28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12T18:21:02Z</dcterms:modified>
  <cp:revision>3</cp:revision>
  <dc:subject/>
  <dc:title>No Slide Title</dc:title>
</cp:coreProperties>
</file>