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3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ckled by a heavy bu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a load of guilt and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hand of Jesus tou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no longer the s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, O he tou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 the joy that floods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happened, and now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 and made m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I met this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he cleansed and made me wh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never cease to prais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hout it while eternity rol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, O he tou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 the joy that floods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happened, and now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uched me and made m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8:16:14Z</dcterms:created>
  <dc:creator>Gary Wintergerst</dc:creator>
  <dc:description/>
  <dc:language>en-US</dc:language>
  <cp:lastModifiedBy>Gary Wintergerst</cp:lastModifiedBy>
  <cp:lastPrinted>1995-08-03T18:16:44Z</cp:lastPrinted>
  <dcterms:modified xsi:type="dcterms:W3CDTF">1999-11-12T22:55:50Z</dcterms:modified>
  <cp:revision>6</cp:revision>
  <dc:subject/>
  <dc:title>No Slide Title</dc:title>
</cp:coreProperties>
</file>