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Within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a Melod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he's coming back to welcome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beyond the starry sk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wing my flight to worlds un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reign with him on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within my heart a mel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hispers sweet and low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not, I am with thee, peace, be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of life's ebb and f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life was wrecked by sin and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cord filled my heart with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wept across the broken str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rred the slumbering chords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sometimes he leads through waters d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als fall across the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sometimes the path seems rough and st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s footprints all the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sting on the riches of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ing neath his sheltering 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looking on his smiling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s why I shout and 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est name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my every lo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s me singing as I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59:42Z</dcterms:created>
  <dc:creator>Gary Wintergerst</dc:creator>
  <dc:description/>
  <dc:language>en-US</dc:language>
  <cp:lastModifiedBy>U</cp:lastModifiedBy>
  <cp:lastPrinted>1995-08-07T15:04:32Z</cp:lastPrinted>
  <dcterms:modified xsi:type="dcterms:W3CDTF">1997-07-24T14:32:52Z</dcterms:modified>
  <cp:revision>3</cp:revision>
  <dc:subject/>
  <dc:title>No Slide Title</dc:title>
</cp:coreProperties>
</file>