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Reigns Ab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9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who reigns above and keeps his court be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holy God of love and all his greatness sh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for his noble dee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for his matchless pow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 from whom all good proceeds let earth and heaven ad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th'eternal God with harp and psalte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brels soft and cymbals loud in this high praise ag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with every tuneful st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reach of heavenly 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powers of music bring, the music of the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in whom they move and live, let every creatur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their Maker give, and homage to their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 be thy name ben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heaven on earth ado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in every breath, let all things praise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22:24Z</dcterms:created>
  <dc:creator>Gary Wintergerst</dc:creator>
  <dc:description/>
  <dc:language>en-US</dc:language>
  <cp:lastModifiedBy>U</cp:lastModifiedBy>
  <cp:lastPrinted>1995-08-11T16:01:02Z</cp:lastPrinted>
  <dcterms:modified xsi:type="dcterms:W3CDTF">1997-07-22T18:33:18Z</dcterms:modified>
  <cp:revision>3</cp:revision>
  <dc:subject/>
  <dc:title>No Slide Title</dc:title>
</cp:coreProperties>
</file>