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 in God's Saint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0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0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 in God's sain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ay and all day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world without sain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ets how to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faith in acqui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abit of pray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depth of ado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help us to sh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 march with even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urn them God's 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 need to withdra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etter to pr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 carry the gospe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fire and through flo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world is their paris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purpose is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 in those sain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praised and unkn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bear someone's cro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shoulder their ow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hame our complai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comforts, our car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patience in ca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courage, is their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 in God's sain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ay and all day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world without sain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ets how to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loving, in l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prove it is tru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ay of self-g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eads us to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19:08Z</dcterms:created>
  <dc:creator>Gary Wintergerst</dc:creator>
  <dc:description/>
  <dc:language>en-US</dc:language>
  <cp:lastModifiedBy>Gary Wintergerst</cp:lastModifiedBy>
  <cp:lastPrinted>1996-01-02T14:01:06Z</cp:lastPrinted>
  <dcterms:modified xsi:type="dcterms:W3CDTF">1999-11-14T03:01:31Z</dcterms:modified>
  <cp:revision>5</cp:revision>
  <dc:subject/>
  <dc:title>No Slide Title</dc:title>
</cp:coreProperties>
</file>