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t and O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is past and 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nks, O Lord,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thee that offense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s of dark may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keep us in th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us through the comi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s of day are o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our hearts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 on thee that sin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s of dark may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make their darknes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us through the comi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oils of day are o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aise our hymn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k that free from per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s of dark may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keep us in th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us through the coming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our souls' preser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for thou dost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many are the peri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which we have to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Jesus Christ, O hear our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ard and save us from them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44:54Z</dcterms:created>
  <dc:creator>Gary Wintergerst</dc:creator>
  <dc:description/>
  <dc:language>en-US</dc:language>
  <cp:lastModifiedBy>U</cp:lastModifiedBy>
  <cp:lastPrinted>1995-12-28T04:36:48Z</cp:lastPrinted>
  <dcterms:modified xsi:type="dcterms:W3CDTF">1997-07-24T17:34:20Z</dcterms:modified>
  <cp:revision>4</cp:revision>
  <dc:subject/>
  <dc:title>No Slide Title</dc:title>
</cp:coreProperties>
</file>