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, and mercy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nd sinners reconciled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all ye nations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he triumph of the sk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'angelic host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 is born in Bethlehem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by highest heaven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everlast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te in time behold hi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spring of a virgin's w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ed in flesh the Godhead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'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d with us in flesh t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heaven-born Prince of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Sun of Righteous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 to all he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with healing in his w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d he lays his glory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at we no more may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aise us from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give us second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4:4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3:54Z</dcterms:modified>
  <cp:revision>2</cp:revision>
  <dc:subject/>
  <dc:title>No Slide Title</dc:title>
</cp:coreProperties>
</file>