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Utter Our C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3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Arial"/>
              </a:rPr>
              <a:t>(V. 4,5 optional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4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utter our cry: that peace may preva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earth will survive, and faith must not fai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pray with our life for the world in our c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people diminished by doubt and despai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ry from the fright of our daily sce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strength to say "No" to all that is mea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signs bearing chaos, extinction of l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energy wasted on weapons of dea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ift up our hearts for children unbor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wisdom, O God, that we may hand 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plenished and tended, this good planet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serving the future and wonder of bi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ator of life, come, share out, we p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Spirit on earth, revealing the W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eaders conferring round tables for pe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ey may from bias and guile be releas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with us, Lord; love, in protest and marc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lp us to fire with passion your churc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atch all our statements and lofty resol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being, unresting, in action involv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ever the ill or pressure we f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hearten and heal, give insight and gr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ink and make peace with each heartbeat and br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oose Christ before Caesar and life before dea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3T08:39:12Z</dcterms:created>
  <dc:creator>Gary Wintergerst</dc:creator>
  <dc:description/>
  <dc:language>en-US</dc:language>
  <cp:lastModifiedBy>Gary Wintergerst</cp:lastModifiedBy>
  <cp:lastPrinted>1996-01-03T12:40:56Z</cp:lastPrinted>
  <dcterms:modified xsi:type="dcterms:W3CDTF">1999-11-14T00:17:59Z</dcterms:modified>
  <cp:revision>5</cp:revision>
  <dc:subject/>
  <dc:title>No Slide Title</dc:title>
</cp:coreProperties>
</file>