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ow Ye th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umpet, Blow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7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turn, ye ransomed sinners, h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ow ye the trumpet, blow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gladly solemn sou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all the nations kn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earth's remotest bound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year of jubilee is com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year of jubilee is com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turn, ye ransomed sinners, h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our great high prie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th full atonement mad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 weary spirits, res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 mournful souls, be glad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year of jubilee is com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year of jubilee is com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turn, ye ransomed sinners, h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xtol the Lamb of G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all-atoning Lamb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demption in his bloo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out the world proclaim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year of jubilee is com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year of jubilee is com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turn, ye ransomed sinners, h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gospel trumpet he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news of heavenly gra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aved from earth, appea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fore your Savior's fac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year of jubilee is com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year of jubilee is com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turn, ye ransomed sinners, h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 slaves of sin and he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liberty recei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afe in Jesus dwe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lest in Jesus' liv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year of jubilee is com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year of jubilee is com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turn, ye ransomed sinners, h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 who have sold for nough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heritage abo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ll have it back unbou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gift of Jesus' lov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year of jubilee is com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year of jubilee is com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1-09T13:30:52Z</dcterms:created>
  <dc:creator>Gary Wintergerst</dc:creator>
  <dc:description/>
  <dc:language>en-US</dc:language>
  <cp:lastModifiedBy>U</cp:lastModifiedBy>
  <cp:lastPrinted>1995-08-07T15:04:32Z</cp:lastPrinted>
  <dcterms:modified xsi:type="dcterms:W3CDTF">1997-07-24T14:32:32Z</dcterms:modified>
  <cp:revision>3</cp:revision>
  <dc:subject/>
  <dc:title>No Slide Title</dc:title>
</cp:coreProperties>
</file>