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acred 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ound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acred Head, now wou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rief and shame weighed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scornfully surroun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orns, thine only crow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pale thou art with angui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ore abuse and scor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at visage langu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once was bright as mor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ou, my Lord, hast suffe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all for sinners' 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e, mine was the transgre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ine the deadly p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re I fall, my Savi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I deserve thy pl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n me with thy fav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ouchsafe to me thy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language shall I bor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ank thee, dearest fri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is thy dying s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ity without en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ke me thine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uld I fainting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me never, n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live my lov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12:12Z</dcterms:created>
  <dc:creator>Gary Wintergerst</dc:creator>
  <dc:description/>
  <dc:language>en-US</dc:language>
  <cp:lastModifiedBy>U</cp:lastModifiedBy>
  <cp:lastPrinted>1995-08-30T07:48:42Z</cp:lastPrinted>
  <dcterms:modified xsi:type="dcterms:W3CDTF">1997-07-24T05:02:34Z</dcterms:modified>
  <cp:revision>2</cp:revision>
  <dc:subject/>
  <dc:title>No Slide Title</dc:title>
</cp:coreProperties>
</file>