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Risen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arles Wesl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is risen today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and heaven in chorus say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your joys and triumphs high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ye heavens, and earth reply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redeeming work is don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ght the fight, the battle wo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in vain forbids him ris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opened paradise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s again our glorious King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, O death, is now thy sting?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he died our souls to sav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's thy victory, boasting grave?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ar we now where Christ has led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ing our exalted Head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like him, like him we ris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s the cross, the grave, the skies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Lord of earth and heave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e by both be give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e greet triumphant now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Resurrection, thou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glory, soul of blis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life is thi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to know, thy power to prov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to sing, and thus to love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30T21:58:14Z</dcterms:created>
  <dc:creator>Gary Wintergerst</dc:creator>
  <dc:description/>
  <dc:language>en-US</dc:language>
  <cp:lastModifiedBy>Gary Wintergerst</cp:lastModifiedBy>
  <cp:lastPrinted>1995-07-30T22:04:06Z</cp:lastPrinted>
  <dcterms:modified xsi:type="dcterms:W3CDTF">2002-06-19T02:30:52Z</dcterms:modified>
  <cp:revision>5</cp:revision>
  <dc:subject/>
  <dc:title>No Slide Title</dc:title>
</cp:coreProperties>
</file>