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aren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se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arent, by whose name all parenthood is kn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your love proclaim each family your own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rect all parents, guarding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nstant love as sentine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mes in which your people d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who, a child within an earthly ho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still undefiled did to adulthood com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hildren bless in every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y may all behold your f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nowing you may grow in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Spirit, who can bind our hearts in uni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ach us so to find the love from self set fre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ur hearts such love increa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very home, by this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be the dwelling place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9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0:22:17Z</dcterms:modified>
  <cp:revision>6</cp:revision>
  <dc:subject/>
  <dc:title>No Slide Title</dc:title>
</cp:coreProperties>
</file>