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e, O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Jehov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e, O thou great Jehova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grim through this barren l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weak, but thou art migh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e with thy powerful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me till I want no 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me till I want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now the crystal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ce the healing stream doth f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fire and cloudy pill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all my journey throu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delive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delive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still my strength and shie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still my strength and shie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tread the verge of Jord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my anxious fears subs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of death and hell's destruc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me safe on Canaan's s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of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of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ver give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ever giv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2T17:50:54Z</dcterms:created>
  <dc:creator>Gary Wintergerst</dc:creator>
  <dc:description/>
  <dc:language>en-US</dc:language>
  <cp:lastModifiedBy>U</cp:lastModifiedBy>
  <cp:lastPrinted>1995-07-02T17:28:28Z</cp:lastPrinted>
  <dcterms:modified xsi:type="dcterms:W3CDTF">1997-07-24T00:30:58Z</dcterms:modified>
  <cp:revision>2</cp:revision>
  <dc:subject/>
  <dc:title>No Slide Title</dc:title>
</cp:coreProperties>
</file>