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Th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aveler Unknow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8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O thou Traveler un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still I hold, but cannot s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company before is g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am left alone with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e all night I mean to st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restle till the break of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e all night I mean to st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restle till the break of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not tell thee who I a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misery and sin decl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self hast called me by my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on thy hands and read it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ho, I ask thee, who art thou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me thy name, and tell me n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ho, I ask thee, who art thou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me thy name, and tell me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ield to me now, for I am wea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confident in self-despai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 to my heart, in blessing spea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conquered by my instant pray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, or thou never hence shalt m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ell me if thy name is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, or thou never hence shalt m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ell me if thy name if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Love! 'tis Love! Thou diedst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ear thy whisper in my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orning breaks, the shadows fl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, Universal Love thou 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e, to all, thy mercies m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nature and thy name is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e, to all, thy mercies m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nature and thy name 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4:07:10Z</dcterms:created>
  <dc:creator>Gary Wintergerst</dc:creator>
  <dc:description/>
  <dc:language>en-US</dc:language>
  <cp:lastModifiedBy>U</cp:lastModifiedBy>
  <cp:lastPrinted>1995-08-07T15:04:32Z</cp:lastPrinted>
  <dcterms:modified xsi:type="dcterms:W3CDTF">1997-07-24T14:33:29Z</dcterms:modified>
  <cp:revision>3</cp:revision>
  <dc:subject/>
  <dc:title>No Slide Title</dc:title>
</cp:coreProperties>
</file>