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High the Cro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59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(Extra verses includ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at end of fil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George William Kitchin and Michael Robert Newbolt, 1916 al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1974 Hope Publishing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let us follow in the glorious tr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ing with joy our song of life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high the cross, the love of Christ procla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the world adore his sacred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high the cross, the love of Christ procla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the world adore his sacred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Christians, follow this triumphant s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sts of God in unity comb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high the cross, the love of Christ procla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the world adore his sacred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new born servant of the Crucifi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rs on the brow the seal of him who di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high the cross, the love of Christ procla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the world adore his sacred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once lifted on the glorious tr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ou hast promised, draw the world to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high the cross, the love of Christ procla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the world adore his sacred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shall our song of triumph ever b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e Crucified for victor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high the cross, the love of Christ procla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the world adore his sacred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Moses lifted up brazen sig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must we lift the rose of Jesse’s l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high the cross, the love of Christ procla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the world adore his sacred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re the seal of water on our br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eath of death is ours to fathom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high the cross, the love of Christ procla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the world adore his sacred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9T20:00:30Z</dcterms:created>
  <dc:creator>Gary Wintergerst</dc:creator>
  <dc:description/>
  <dc:language>en-US</dc:language>
  <cp:lastModifiedBy>Gary Wintergerst</cp:lastModifiedBy>
  <cp:lastPrinted>1995-07-10T21:17:46Z</cp:lastPrinted>
  <dcterms:modified xsi:type="dcterms:W3CDTF">2003-06-28T16:32:19Z</dcterms:modified>
  <cp:revision>6</cp:revision>
  <dc:subject/>
  <dc:title>No Slide Title</dc:title>
</cp:coreProperties>
</file>