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oy-Chi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Ma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oy-child of M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orn in a st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anger his cradle in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shall we call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the manger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name is given in Bethlehem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oy-child of M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orn in a st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anger his cradle in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ever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given for us in Bethle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oy-child of M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orn in a st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anger his cradle in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he sa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he help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here among us in Bethlehem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oy-child of M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orn in a st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anger his cradle in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 of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uman m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s him our brother of Bethle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oy-child of M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orn in a st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anger his cradle in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with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our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-sent helper of Bethle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oy-child of M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orn in a st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anger his cradle in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 we prais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and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ourselves to him of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oy-child of M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orn in a st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anger his cradle in Bethle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2:27:2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08T05:01:59Z</dcterms:modified>
  <cp:revision>4</cp:revision>
  <dc:subject/>
  <dc:title>No Slide Title</dc:title>
</cp:coreProperties>
</file>