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My Tong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ous Batt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God be praise and glor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ather and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'eternal Spirit hon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evermore be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glory in the high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unending ages r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my tongue, the glorious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ending of the f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bove the cross, the troph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 the loud triumphant l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Christ, the world's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victim won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, when at length the full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'appointed time was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Word, was born of wom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ft for us his heavenly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ed us human life made perfec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ne as light amid the glo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, with thirty years accompli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nt he forth from Nazar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ined, dedicated, w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ought his work, and met his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lamb he humbly yiel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cross his dying br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cross, thou sign of triump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or us the noblest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in foliage, none in bloss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in fruit thy peer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ymbol of the world's redemp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eight that hung on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5:36Z</dcterms:created>
  <dc:creator>Gary Wintergerst</dc:creator>
  <dc:description/>
  <dc:language>en-US</dc:language>
  <cp:lastModifiedBy>U</cp:lastModifiedBy>
  <cp:lastPrinted>1995-08-30T07:48:42Z</cp:lastPrinted>
  <dcterms:modified xsi:type="dcterms:W3CDTF">1997-07-24T05:03:47Z</dcterms:modified>
  <cp:revision>2</cp:revision>
  <dc:subject/>
  <dc:title>No Slide Title</dc:title>
</cp:coreProperties>
</file>