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To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0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my everlasting por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than friend or life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long my pilgrim journ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let me walk with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to thee , clos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to thee, clos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long my pilgrim journ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let me walk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for ease or worldly pl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for fame my prayer shall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ly will I toil and suff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let me walk with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to thee , clos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to thee, clos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long my pilgrim journ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let me walk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 through the vale of shadow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 me o'er life's fitful se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the gate of life etern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I enter, Lord, with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to thee, clos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to thee, clos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the gate of life etern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I enter, Lord,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1:37:38Z</dcterms:created>
  <dc:creator>Gary Wintergerst</dc:creator>
  <dc:description/>
  <dc:language>en-US</dc:language>
  <cp:lastModifiedBy>U</cp:lastModifiedBy>
  <cp:lastPrinted>1995-08-07T15:04:32Z</cp:lastPrinted>
  <dcterms:modified xsi:type="dcterms:W3CDTF">1997-07-24T15:48:24Z</dcterms:modified>
  <cp:revision>3</cp:revision>
  <dc:subject/>
  <dc:title>No Slide Title</dc:title>
</cp:coreProperties>
</file>