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, most gracious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nder voice like thine can peace aff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; stay thou nearb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mptations lose their power when thou art n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, in joy or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quickly and abide, or life is v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; teach me thy w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rich promises in me fulf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 every hour, most Holy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ke me thine indeed, thou blessed S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ee, O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our I ne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me now, my Savior, I com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7T14:49:40Z</dcterms:created>
  <dc:creator>Gary Wintergerst</dc:creator>
  <dc:description/>
  <dc:language>en-US</dc:language>
  <cp:lastModifiedBy>U</cp:lastModifiedBy>
  <cp:lastPrinted>1995-08-07T14:45:34Z</cp:lastPrinted>
  <dcterms:modified xsi:type="dcterms:W3CDTF">1997-07-24T14:34:42Z</dcterms:modified>
  <cp:revision>3</cp:revision>
  <dc:subject/>
  <dc:title>No Slide Title</dc:title>
</cp:coreProperties>
</file>