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353200"/>
            <a:ext cx="730440" cy="104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705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056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ures of 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056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nd K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056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056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6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7056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05600" indent="0">
              <a:lnSpc>
                <a:spcPct val="10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7056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rancis of Assisi, ca. 1225; trans. By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illiam H. Draper, 1925, adapt. 198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056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dapt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United Methodist  Publishing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ye who are of tender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ing others, take your p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ho long pain and sorrow bear, praise God and on him cast your car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O praise ye! 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ou, our sister, gentle death, waiting to hush our latest br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leadest home the child of God, and Christ our Lord the way has tr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O praise ye! 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ings their Creator bless, and worship him in humble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praise the Fa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Son, and praise the Spirit, Three in O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O praise ye! 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ures of our God and k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 and with us 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other sun with golden bea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ster moon with silver gleam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O praise y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other wind, air, clouds, and r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hich all creatures ye sust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rising morn, in praise rejoi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lights of evening, find a voic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O praise y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ster water, flowing cle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usic for thy Lord to h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other fire who lights the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viding warmth, enhancing s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O praise y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mother earth, who day by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foldest blessing on our w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lowers and fruits that in thee gr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m God’s glory also show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aise ye! O praise y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19:22:08Z</dcterms:created>
  <dc:creator>Gary Wintergerst</dc:creator>
  <dc:description/>
  <dc:language>en-US</dc:language>
  <cp:lastModifiedBy>Gary Wintergerst</cp:lastModifiedBy>
  <dcterms:modified xsi:type="dcterms:W3CDTF">2003-06-14T15:24:42Z</dcterms:modified>
  <cp:revision>7</cp:revision>
  <dc:subject/>
  <dc:title>No Slide Title</dc:title>
</cp:coreProperties>
</file>