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tand Amaz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th the ransomed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ce I at last shall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joy through the ag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ing of his love fo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tand amazed in the pres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the Nazare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 how he could lo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inner, condemned, uncle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 it was in the gard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rayed: "Not my will, but thin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d no tears for his own grief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weat-drops of blood for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ity angels behe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me from the world of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fort him in the sorr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ore for my soul that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ok my sins and my sor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made them his very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ore the burden to Calv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ffered and died al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ng shall ever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rvelous! How 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y Savior's lov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04:48Z</dcterms:created>
  <dc:creator>Gary Wintergerst</dc:creator>
  <dc:description/>
  <dc:language>en-US</dc:language>
  <cp:lastModifiedBy>U</cp:lastModifiedBy>
  <cp:lastPrinted>1995-08-07T15:04:32Z</cp:lastPrinted>
  <dcterms:modified xsi:type="dcterms:W3CDTF">1997-07-24T14:31:36Z</dcterms:modified>
  <cp:revision>3</cp:revision>
  <dc:subject/>
  <dc:title>No Slide Title</dc:title>
</cp:coreProperties>
</file>