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erfect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4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erfect Love, all human thought transc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wly we kneel in prayer before thy thr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eirs may be the love which knows no 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thou forevermore dost join in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erfect Life, be thou their full assura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ender charity and steadfast fai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atient hope and quiet, brave endur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childlike trust that fears nor pain nor d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them the joy which brightens earthly sorr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them the peace which calms all earthly str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life's day the glorious unknown morr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dawns upon eternal love and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5T20:00:14Z</dcterms:created>
  <dc:creator>Gary Wintergerst</dc:creator>
  <dc:description/>
  <dc:language>en-US</dc:language>
  <cp:lastModifiedBy>U</cp:lastModifiedBy>
  <cp:lastPrinted>1995-12-25T21:11:28Z</cp:lastPrinted>
  <dcterms:modified xsi:type="dcterms:W3CDTF">1997-07-24T17:29:12Z</dcterms:modified>
  <cp:revision>4</cp:revision>
  <dc:subject/>
  <dc:title>No Slide Title</dc:title>
</cp:coreProperties>
</file>