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s K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sinners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ins on earth forgive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my gracious Savior sh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name inscribed in heave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e have felt and se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nfidence we t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ublish to the ends of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gns infallib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ho in Christ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e for us hath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his unknown peace rece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l his blood appl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y his Spirit pr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now the things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hings which freely of hi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th on us bestow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ek and lowl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our Savior w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us that Spirit doth im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gns us with his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nature's turned, our m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nsformed in all its p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oth the witnesses are joi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of God with 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13:08Z</dcterms:created>
  <dc:creator>Gary Wintergerst</dc:creator>
  <dc:description/>
  <dc:language>en-US</dc:language>
  <cp:lastModifiedBy>U</cp:lastModifiedBy>
  <cp:lastPrinted>1995-08-07T15:04:32Z</cp:lastPrinted>
  <dcterms:modified xsi:type="dcterms:W3CDTF">1997-07-24T14:31:41Z</dcterms:modified>
  <cp:revision>3</cp:revision>
  <dc:subject/>
  <dc:title>No Slide Title</dc:title>
</cp:coreProperties>
</file>