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aya H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(Victory Hymn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7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79f"/>
                </a:solidFill>
                <a:latin typeface="Arial"/>
              </a:rPr>
              <a:t>[Eng: 2; Hin (v1.):9]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cr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(Cha ra no may hain shisha navate.)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sa navat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(Jaya jaya teri ham hain gate.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Jaya jaya teri ham hain gate.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aya jaya jaya jaya ho jaya jaya jaya jaya h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aya ho aho jaya ho aho jaya ho aho jaya ho ah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aya jaya jaya jaya ho jaya jaya jaya jaya h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aya ho aho jaya ho aho jaya ho ah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aya ho aho jaya jaya jaya jaya h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aya jaya jaya jaya h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(We come before thee, O Great and Holy,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reat and Hol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(We bow our heads to thee, Great and Holy,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reat and Hol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(Low at thy feet we bow in quiet reverence,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then sing thy praises, evermore repeating: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aya jaya jaya jaya ho jaya jaya jaya jaya h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aya ho aho jaya ho aho jaya ho ah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aya ho aho jaya jaya jaya jaya h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aya jaya jaya jaya h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(Lord, let us see thee, grant us a vision!)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us a visio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(Sins and denials, dear Lord, forgive us.)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r Lord, forgive 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(Take us and keep us in thy strong protection;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safe in thy refuge, we will sing thy praises:)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aya jaya jaya jaya ho jaya jaya jaya jaya ho. Jaya h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aya ho aho jaya ho aho jaya ho ah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aya ho aho jaya jaya jaya jaya h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aya jaya jaya jaya h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(Tere sana mukh ham hain ate.)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m hain at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3T12:24:20Z</dcterms:created>
  <dc:creator>Gary Wintergerst</dc:creator>
  <dc:description/>
  <dc:language>en-US</dc:language>
  <cp:lastModifiedBy>Gary Wintergerst</cp:lastModifiedBy>
  <cp:lastPrinted>1996-01-03T12:52:00Z</cp:lastPrinted>
  <dcterms:modified xsi:type="dcterms:W3CDTF">1999-11-14T00:29:58Z</dcterms:modified>
  <cp:revision>5</cp:revision>
  <dc:subject/>
  <dc:title>No Slide Title</dc:title>
</cp:coreProperties>
</file>