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Heal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Nation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2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8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healing of the natio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we pray with one acc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 just and equal shar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things that earth afford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a life of love in ac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us rise and pledge our 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us rise and pledge our w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us forward into freedo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despair your world relea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, redeemed from war and hatr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may come and go in pe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w us how through care and goodn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ar will die and hope increa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ar will die and hope increa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at kills abundant liv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it from the earth be bann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ide of status, race, or schoo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gmas that obscure your pla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common quest for justi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we hallow life's brief sp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we hallow life's brief spa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, Creator God, have writt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great name on humanki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our growing in your liken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the life of Christ to m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by our response and servi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th its destiny may f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th its destiny may fi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8T22:07:12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14T00:10:19Z</dcterms:modified>
  <cp:revision>5</cp:revision>
  <dc:subject/>
  <dc:title>No Slide Title</dc:title>
</cp:coreProperties>
</file>