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Lord, Y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ants G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ng:2, Jap:11, Jap/Eng: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58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kai no tomo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 tsunag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yujika no moto n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tsu ware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mi no mikun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a te to sh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u Yesu no mich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umi yuk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kai no tomo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 tsunag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yujika no moto n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Lord, your servants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 we link with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ward our Savior's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tsu ware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ami no mikun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a te to sh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ed in love we st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eek the realm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nite to pr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1040" y="266688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u Yesu no michi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umi yuk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guide our ste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040" y="274320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Lord, your servants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 we link with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ward our Savior's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ed in love we st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eek the realm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nite to pr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guide our ste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the tongues we s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ed are the l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ur hearts are one in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love's dema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in darkness hope app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 age and you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eacher, dwell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's secrets open w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s never cea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, oh where, can weary sou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source of peac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all those sore dist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rn by endless strif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healer, bring your bal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ou are the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, O God, an age rene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deathles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as we work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th and courage, faith an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ed in our strif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aster, be our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Truth, 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21:41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52:56Z</dcterms:modified>
  <cp:revision>4</cp:revision>
  <dc:subject/>
  <dc:title>No Slide Title</dc:title>
</cp:coreProperties>
</file>